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7.png" ContentType="image/png"/>
  <Override PartName="/ppt/media/image15.wmf" ContentType="image/x-wmf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32600" cy="9979025"/>
</p:presentation>
</file>

<file path=ppt/commentAuthors.xml><?xml version="1.0" encoding="utf-8"?>
<p:cmAuthorLst xmlns:p="http://schemas.openxmlformats.org/presentationml/2006/main">
  <p:cmAuthor id="0" name="BaroniCl01" initials="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09-09-07T13:16:05.882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8"/>
          </p:nvPr>
        </p:nvSpPr>
        <p:spPr>
          <a:xfrm>
            <a:off x="3870360" y="-360"/>
            <a:ext cx="296208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d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65520" cy="4491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9"/>
          </p:nvPr>
        </p:nvSpPr>
        <p:spPr>
          <a:xfrm>
            <a:off x="-360" y="9477000"/>
            <a:ext cx="296244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10"/>
          </p:nvPr>
        </p:nvSpPr>
        <p:spPr>
          <a:xfrm>
            <a:off x="3870360" y="9477000"/>
            <a:ext cx="2962080" cy="500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EA233D-2315-49DC-AB85-1F6F66C509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70360" y="9477360"/>
            <a:ext cx="29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37D2F5-6750-4F67-A181-BA7D1BFD548A}" type="slidenum">
              <a:rPr b="0" lang="en-GB" sz="1200" spc="-1" strike="noStrike">
                <a:solidFill>
                  <a:srgbClr val="61636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655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65520" cy="4491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ovrapporre a questa una nuova mappa con le nuove percentuali in modo che creando un’animazione si veda la crescita e la diminuzione potrebbe essere utile anche evidenziare come con la nuova situazione si passi a una situazione molto più polarizzata su due estremi che sono anche molto più distanti tra loro rispetto ad una situazione attuale con molte più sfumature e vicinan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655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Segnaposto numero diapositiva 3"/>
          <p:cNvSpPr/>
          <p:nvPr/>
        </p:nvSpPr>
        <p:spPr>
          <a:xfrm>
            <a:off x="3870360" y="9477360"/>
            <a:ext cx="29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C29354-3B1D-4174-8B65-4B888347EB41}" type="slidenum">
              <a:rPr b="0" lang="en-GB" sz="1200" spc="-1" strike="noStrike">
                <a:solidFill>
                  <a:srgbClr val="61636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655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egnaposto numero diapositiva 3"/>
          <p:cNvSpPr/>
          <p:nvPr/>
        </p:nvSpPr>
        <p:spPr>
          <a:xfrm>
            <a:off x="3870360" y="9477360"/>
            <a:ext cx="29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A5134D-9A5A-46B7-83B3-40430D9CBF11}" type="slidenum">
              <a:rPr b="0" lang="en-GB" sz="1200" spc="-1" strike="noStrike">
                <a:solidFill>
                  <a:srgbClr val="61636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65520" cy="4491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Neutralità dell’asse tecnologico vs la cul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2 dinamiche contrappos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ecnologia come stimolo grazie all’accesso illimitato ad informazioni e contenu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inamica sostituitiva di contenuti tradizionali con contenuti di più scadenti (informazione orizzontale, meno approfondimento, fruizione più velo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65520" cy="4491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videnziare nel discorso i differenti utilizzi in base alla diverse fasce di età (come da slide eliminata giovani e adul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Segnaposto numero diapositiva 3"/>
          <p:cNvSpPr/>
          <p:nvPr/>
        </p:nvSpPr>
        <p:spPr>
          <a:xfrm>
            <a:off x="3870360" y="9477360"/>
            <a:ext cx="29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E6A33A-1A88-45F8-880F-C46FAD456D38}" type="slidenum">
              <a:rPr b="0" lang="en-GB" sz="1200" spc="-1" strike="noStrike">
                <a:solidFill>
                  <a:srgbClr val="61636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65520" cy="4491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videnziare nel discorso i differenti utilizzi in base alla diverse fasce di età (come da slide eliminata giovani e adul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Segnaposto numero diapositiva 3"/>
          <p:cNvSpPr/>
          <p:nvPr/>
        </p:nvSpPr>
        <p:spPr>
          <a:xfrm>
            <a:off x="3870360" y="9477360"/>
            <a:ext cx="2962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8D9584-373A-4472-A50A-F29FDC1C341D}" type="slidenum">
              <a:rPr b="0" lang="en-GB" sz="1200" spc="-1" strike="noStrike">
                <a:solidFill>
                  <a:srgbClr val="61636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CB1D-D4D4-4D34-B087-E522E499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6671-0BB4-4AC7-AD90-1CF7702F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F67-6237-4314-88B1-4496E16A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A7A0-7F7E-4B51-AD09-AA2100BF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DF3-F81B-4079-AA01-8106F6C0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437-B53B-4F54-B338-6E92A863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D4F-1292-4583-AE65-C8D339F0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5314-240D-49FE-8E4F-7CE63157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26F-7851-4472-BCBC-A5861519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967F-7ECE-4984-A2B2-C38E9706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B7C-EB17-441D-A8BD-2FF70C7B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B1F-2600-49E1-A22D-38E0C8D6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F94A4-0518-4C37-B973-733618EBE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8FE55-54B6-40CE-BA95-967702FA277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506EC-2A76-4EB1-AE91-0F244BA1CA2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BE5FD-7B43-4144-B92C-90EE144F41A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4692C-759F-4249-A887-33894F25D29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BE0FC-349A-4EDC-987A-E947D510FBD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16FDC-611D-4AF9-A029-068DCF685C7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90487-252D-4529-98B7-558532D91EE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E3CE6-9586-4D97-B887-DF32E6592E7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93AB7-8E1D-4BE2-86FA-6667F889851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AEDBA-691F-4D94-9DE6-6F88E0B6A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6E982-F15E-41A4-A5A3-D0885252FA9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585266-1648-4469-ABAA-37799A68081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477AC6-FD15-416C-AB2D-07C4B766919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18F66E-D9D3-49BC-BC18-A9715C5CA93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EBD689-8BCC-4490-B124-67426247C8B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347F5D-4362-442E-B274-00D0C6AF909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16392C-E670-4FF9-80A9-D9D2E2EB231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053DEF-56B8-4C60-8964-690F8722299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471B20-B2D9-42E2-93D7-A19F3031F58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40E5A5-F59F-4DE5-8FF6-B29B744EF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6A6C8E-1922-4C93-A0FE-4414DA4B303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77E6B2-3623-48FB-9DF0-B04538FDA03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794786-F0E9-4BEA-B6F5-5A24FE4F6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Macintosh HD:Users:marienl:Desktop:Nielson PPT:Nielsen PPT artwork:Nielson ko logo.png"/>
          <p:cNvPicPr/>
          <p:nvPr/>
        </p:nvPicPr>
        <p:blipFill>
          <a:blip r:embed="rId2"/>
          <a:stretch/>
        </p:blipFill>
        <p:spPr>
          <a:xfrm>
            <a:off x="554040" y="6365880"/>
            <a:ext cx="1049400" cy="3697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4"/>
          <p:cNvGrpSpPr/>
          <p:nvPr/>
        </p:nvGrpSpPr>
        <p:grpSpPr>
          <a:xfrm>
            <a:off x="0" y="0"/>
            <a:ext cx="9144000" cy="6885000"/>
            <a:chOff x="0" y="0"/>
            <a:chExt cx="9144000" cy="6885000"/>
          </a:xfrm>
        </p:grpSpPr>
        <p:pic>
          <p:nvPicPr>
            <p:cNvPr id="2" name="Picture 25" descr="Nielsen_R"/>
            <p:cNvPicPr/>
            <p:nvPr/>
          </p:nvPicPr>
          <p:blipFill>
            <a:blip r:embed="rId3"/>
            <a:stretch/>
          </p:blipFill>
          <p:spPr>
            <a:xfrm>
              <a:off x="8128080" y="6524640"/>
              <a:ext cx="1015920" cy="360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" name="Object 26"/>
            <p:cNvGraphicFramePr/>
            <p:nvPr/>
          </p:nvGraphicFramePr>
          <p:xfrm>
            <a:off x="0" y="6172200"/>
            <a:ext cx="7945560" cy="685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" name="Object 2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6172200"/>
                      <a:ext cx="7945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" name="Picture 27" descr=""/>
            <p:cNvPicPr/>
            <p:nvPr/>
          </p:nvPicPr>
          <p:blipFill>
            <a:blip r:embed="rId6"/>
            <a:stretch/>
          </p:blipFill>
          <p:spPr>
            <a:xfrm>
              <a:off x="0" y="6477120"/>
              <a:ext cx="4400640" cy="352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" name="Object 28"/>
            <p:cNvGraphicFramePr/>
            <p:nvPr/>
          </p:nvGraphicFramePr>
          <p:xfrm>
            <a:off x="0" y="0"/>
            <a:ext cx="2066760" cy="847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" name="Object 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0"/>
                      <a:ext cx="2066760" cy="84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2164-3662-4DEF-8918-8CB1D45F5AA7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34920" y="44280"/>
            <a:ext cx="9109080" cy="144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Macintosh HD:Users:marienl:Desktop:Nielson PPT:Nielsen PPT artwork:Nielson ko logo.png"/>
          <p:cNvPicPr/>
          <p:nvPr/>
        </p:nvPicPr>
        <p:blipFill>
          <a:blip r:embed="rId2"/>
          <a:stretch/>
        </p:blipFill>
        <p:spPr>
          <a:xfrm>
            <a:off x="554040" y="6365880"/>
            <a:ext cx="1049400" cy="369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Object 28"/>
          <p:cNvGraphicFramePr/>
          <p:nvPr/>
        </p:nvGraphicFramePr>
        <p:xfrm>
          <a:off x="0" y="0"/>
          <a:ext cx="206676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20667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2d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9920" indent="-169920">
              <a:spcAft>
                <a:spcPts val="300"/>
              </a:spcAft>
              <a:buClr>
                <a:srgbClr val="009fd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1" marL="573120" indent="-235080">
              <a:lnSpc>
                <a:spcPct val="90000"/>
              </a:lnSpc>
              <a:spcAft>
                <a:spcPts val="499"/>
              </a:spcAft>
              <a:buClr>
                <a:srgbClr val="009fda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636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2" marL="912960" indent="-177840">
              <a:lnSpc>
                <a:spcPct val="90000"/>
              </a:lnSpc>
              <a:buClr>
                <a:srgbClr val="009fda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16365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616365"/>
              </a:solidFill>
              <a:latin typeface="Arial"/>
            </a:endParaRPr>
          </a:p>
          <a:p>
            <a:pPr lvl="3" marL="1260360" indent="-112680">
              <a:lnSpc>
                <a:spcPct val="110000"/>
              </a:lnSpc>
              <a:buClr>
                <a:srgbClr val="009fda"/>
              </a:buClr>
              <a:buSzPct val="55000"/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16365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616365"/>
              </a:solidFill>
              <a:latin typeface="Arial"/>
            </a:endParaRPr>
          </a:p>
          <a:p>
            <a:pPr lvl="4" marL="1825560" indent="-112680">
              <a:lnSpc>
                <a:spcPct val="80000"/>
              </a:lnSpc>
              <a:spcBef>
                <a:spcPts val="1576"/>
              </a:spcBef>
              <a:buClr>
                <a:srgbClr val="009fda"/>
              </a:buClr>
              <a:buSzPct val="8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6365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16365"/>
              </a:solidFill>
              <a:latin typeface="Arial"/>
            </a:endParaRPr>
          </a:p>
          <a:p>
            <a:pPr lvl="5" marL="1825560" indent="-112680">
              <a:spcBef>
                <a:spcPts val="700"/>
              </a:spcBef>
              <a:buClr>
                <a:srgbClr val="61636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6365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16365"/>
              </a:solidFill>
              <a:latin typeface="Arial"/>
            </a:endParaRPr>
          </a:p>
          <a:p>
            <a:pPr lvl="6" marL="1825560" indent="-112680">
              <a:spcBef>
                <a:spcPts val="700"/>
              </a:spcBef>
              <a:buClr>
                <a:srgbClr val="616365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6365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Macintosh HD:Users:marienl:Desktop:Nielson PPT:Nielsen PPT artwork:Nielson ko logo.png"/>
          <p:cNvPicPr/>
          <p:nvPr/>
        </p:nvPicPr>
        <p:blipFill>
          <a:blip r:embed="rId2"/>
          <a:stretch/>
        </p:blipFill>
        <p:spPr>
          <a:xfrm>
            <a:off x="554040" y="6365880"/>
            <a:ext cx="1049400" cy="36972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24"/>
          <p:cNvGrpSpPr/>
          <p:nvPr/>
        </p:nvGrpSpPr>
        <p:grpSpPr>
          <a:xfrm>
            <a:off x="0" y="0"/>
            <a:ext cx="9144000" cy="6885000"/>
            <a:chOff x="0" y="0"/>
            <a:chExt cx="9144000" cy="6885000"/>
          </a:xfrm>
        </p:grpSpPr>
        <p:pic>
          <p:nvPicPr>
            <p:cNvPr id="166" name="Picture 25" descr="Nielsen_R"/>
            <p:cNvPicPr/>
            <p:nvPr/>
          </p:nvPicPr>
          <p:blipFill>
            <a:blip r:embed="rId3"/>
            <a:stretch/>
          </p:blipFill>
          <p:spPr>
            <a:xfrm>
              <a:off x="8128080" y="6524640"/>
              <a:ext cx="1015920" cy="360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67" name="Object 26"/>
            <p:cNvGraphicFramePr/>
            <p:nvPr/>
          </p:nvGraphicFramePr>
          <p:xfrm>
            <a:off x="0" y="6172200"/>
            <a:ext cx="7945560" cy="685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8" name="Object 2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6172200"/>
                      <a:ext cx="7945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69" name="Picture 27" descr=""/>
            <p:cNvPicPr/>
            <p:nvPr/>
          </p:nvPicPr>
          <p:blipFill>
            <a:blip r:embed="rId6"/>
            <a:stretch/>
          </p:blipFill>
          <p:spPr>
            <a:xfrm>
              <a:off x="0" y="6477120"/>
              <a:ext cx="4400640" cy="352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70" name="Object 28"/>
            <p:cNvGraphicFramePr/>
            <p:nvPr/>
          </p:nvGraphicFramePr>
          <p:xfrm>
            <a:off x="0" y="0"/>
            <a:ext cx="2066760" cy="847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1" name="Object 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0"/>
                      <a:ext cx="2066760" cy="84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2" name="PlaceHolder 1"/>
          <p:cNvSpPr>
            <a:spLocks noGrp="1"/>
          </p:cNvSpPr>
          <p:nvPr>
            <p:ph type="ftr" idx="4"/>
          </p:nvPr>
        </p:nvSpPr>
        <p:spPr>
          <a:xfrm>
            <a:off x="2219400" y="6460920"/>
            <a:ext cx="1868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cerca Etnogra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ldNum" idx="5"/>
          </p:nvPr>
        </p:nvSpPr>
        <p:spPr>
          <a:xfrm>
            <a:off x="6173280" y="6447960"/>
            <a:ext cx="8240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D2996F3-30C1-49D7-972F-7D8AE53B01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Macintosh HD:Users:marienl:Desktop:Nielson PPT:Nielsen PPT artwork:Nielson ko logo.png"/>
          <p:cNvPicPr/>
          <p:nvPr/>
        </p:nvPicPr>
        <p:blipFill>
          <a:blip r:embed="rId2"/>
          <a:stretch/>
        </p:blipFill>
        <p:spPr>
          <a:xfrm>
            <a:off x="554040" y="6365880"/>
            <a:ext cx="1049400" cy="36972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24"/>
          <p:cNvGrpSpPr/>
          <p:nvPr/>
        </p:nvGrpSpPr>
        <p:grpSpPr>
          <a:xfrm>
            <a:off x="0" y="0"/>
            <a:ext cx="9144000" cy="6885000"/>
            <a:chOff x="0" y="0"/>
            <a:chExt cx="9144000" cy="6885000"/>
          </a:xfrm>
        </p:grpSpPr>
        <p:pic>
          <p:nvPicPr>
            <p:cNvPr id="212" name="Picture 25" descr="Nielsen_R"/>
            <p:cNvPicPr/>
            <p:nvPr/>
          </p:nvPicPr>
          <p:blipFill>
            <a:blip r:embed="rId3"/>
            <a:stretch/>
          </p:blipFill>
          <p:spPr>
            <a:xfrm>
              <a:off x="8128080" y="6524640"/>
              <a:ext cx="1015920" cy="360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3" name="Object 26"/>
            <p:cNvGraphicFramePr/>
            <p:nvPr/>
          </p:nvGraphicFramePr>
          <p:xfrm>
            <a:off x="0" y="6172200"/>
            <a:ext cx="7945560" cy="685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4" name="Object 2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6172200"/>
                      <a:ext cx="7945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15" name="Picture 27" descr=""/>
            <p:cNvPicPr/>
            <p:nvPr/>
          </p:nvPicPr>
          <p:blipFill>
            <a:blip r:embed="rId6"/>
            <a:stretch/>
          </p:blipFill>
          <p:spPr>
            <a:xfrm>
              <a:off x="0" y="6477120"/>
              <a:ext cx="4400640" cy="352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6" name="Object 28"/>
            <p:cNvGraphicFramePr/>
            <p:nvPr/>
          </p:nvGraphicFramePr>
          <p:xfrm>
            <a:off x="0" y="0"/>
            <a:ext cx="2066760" cy="847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7" name="Object 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0"/>
                      <a:ext cx="2066760" cy="84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8" name="PlaceHolder 1"/>
          <p:cNvSpPr>
            <a:spLocks noGrp="1"/>
          </p:cNvSpPr>
          <p:nvPr>
            <p:ph type="ftr" idx="6"/>
          </p:nvPr>
        </p:nvSpPr>
        <p:spPr>
          <a:xfrm>
            <a:off x="2219400" y="6460920"/>
            <a:ext cx="1868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61636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16365"/>
                </a:solidFill>
                <a:latin typeface="Times New Roman"/>
              </a:rPr>
              <a:t>Ricerca Etnogra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ldNum" idx="7"/>
          </p:nvPr>
        </p:nvSpPr>
        <p:spPr>
          <a:xfrm>
            <a:off x="6173280" y="6447960"/>
            <a:ext cx="8240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1636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Times New Roman"/>
              </a:rPr>
              <a:t>Page </a:t>
            </a:r>
            <a:fld id="{106E932E-2D50-4701-BEB4-AAE881D165A4}" type="slidenum">
              <a:rPr b="0" lang="en-US" sz="2400" spc="-1" strike="noStrike">
                <a:solidFill>
                  <a:srgbClr val="61636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comments" Target="../comments/commen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416160" y="1508040"/>
            <a:ext cx="257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16365"/>
                </a:solidFill>
                <a:latin typeface="Verdana"/>
              </a:rPr>
              <a:t>Milano, 18 settembre 2009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pic>
        <p:nvPicPr>
          <p:cNvPr id="264" name="Picture 4" descr="Nielson color logo"/>
          <p:cNvPicPr/>
          <p:nvPr/>
        </p:nvPicPr>
        <p:blipFill>
          <a:blip r:embed="rId1"/>
          <a:stretch/>
        </p:blipFill>
        <p:spPr>
          <a:xfrm>
            <a:off x="392040" y="4451400"/>
            <a:ext cx="1208160" cy="426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"/>
          <p:cNvPicPr/>
          <p:nvPr/>
        </p:nvPicPr>
        <p:blipFill>
          <a:blip r:embed="rId2"/>
          <a:stretch/>
        </p:blipFill>
        <p:spPr>
          <a:xfrm>
            <a:off x="0" y="-88920"/>
            <a:ext cx="9109080" cy="1446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3"/>
          <a:stretch/>
        </p:blipFill>
        <p:spPr>
          <a:xfrm>
            <a:off x="6638760" y="1214280"/>
            <a:ext cx="250524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981000"/>
            <a:ext cx="9144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82d1"/>
                </a:solidFill>
                <a:latin typeface="Arial"/>
              </a:rPr>
              <a:t>Trend 2008/2009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0"/>
            <a:ext cx="9144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82d1"/>
                </a:solidFill>
                <a:latin typeface="Arial"/>
              </a:rPr>
              <a:t>Di cosa gli Italiani potrebbero fare tranquillamente a meno</a:t>
            </a: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51280" y="1700280"/>
            <a:ext cx="20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7403a"/>
                </a:solidFill>
                <a:latin typeface="Arial"/>
              </a:rPr>
              <a:t>% rispondenti “Non mi interessa, ne potrei tranquillamente fare a meno”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20008800">
            <a:off x="2411280" y="2133360"/>
            <a:ext cx="1297080" cy="431640"/>
          </a:xfrm>
          <a:prstGeom prst="ellipse">
            <a:avLst/>
          </a:prstGeom>
          <a:noFill/>
          <a:ln w="9360">
            <a:solidFill>
              <a:srgbClr val="f74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4427640" y="6021360"/>
            <a:ext cx="462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Tot. Popolazione con 14 anni o più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120680" y="3873600"/>
            <a:ext cx="438120" cy="1312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635200" y="2720880"/>
            <a:ext cx="436680" cy="2465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148280" y="4159080"/>
            <a:ext cx="438120" cy="1027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72160" y="3235320"/>
            <a:ext cx="438120" cy="1951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84880" y="4387680"/>
            <a:ext cx="438120" cy="7988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558800" y="3759120"/>
            <a:ext cx="428760" cy="142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071880" y="2378160"/>
            <a:ext cx="428400" cy="28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586400" y="4102200"/>
            <a:ext cx="438120" cy="1084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110280" y="3235320"/>
            <a:ext cx="426960" cy="1951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623000" y="4273560"/>
            <a:ext cx="428760" cy="91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58920" y="35496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16365"/>
                </a:solidFill>
                <a:latin typeface="Arial"/>
              </a:rPr>
              <a:t>23</a:t>
            </a:r>
            <a:endParaRPr b="0" lang="en-US" sz="17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771640" y="23972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16365"/>
                </a:solidFill>
                <a:latin typeface="Arial"/>
              </a:rPr>
              <a:t>43</a:t>
            </a:r>
            <a:endParaRPr b="0" lang="en-US" sz="17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284720" y="38354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16365"/>
                </a:solidFill>
                <a:latin typeface="Arial"/>
              </a:rPr>
              <a:t>18</a:t>
            </a:r>
            <a:endParaRPr b="0" lang="en-US" sz="17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796000" y="291132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16365"/>
                </a:solidFill>
                <a:latin typeface="Arial"/>
              </a:rPr>
              <a:t>34</a:t>
            </a:r>
            <a:endParaRPr b="0" lang="en-US" sz="17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08720" y="40640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16365"/>
                </a:solidFill>
                <a:latin typeface="Arial"/>
              </a:rPr>
              <a:t>14</a:t>
            </a:r>
            <a:endParaRPr b="0" lang="en-US" sz="17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692360" y="343548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16365"/>
                </a:solidFill>
                <a:latin typeface="Arial"/>
              </a:rPr>
              <a:t>25</a:t>
            </a:r>
            <a:endParaRPr b="0" lang="en-US" sz="17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03640" y="205596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16365"/>
                </a:solidFill>
                <a:latin typeface="Arial"/>
              </a:rPr>
              <a:t>49</a:t>
            </a:r>
            <a:endParaRPr b="0" lang="en-US" sz="17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16360" y="37782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16365"/>
                </a:solidFill>
                <a:latin typeface="Arial"/>
              </a:rPr>
              <a:t>19</a:t>
            </a:r>
            <a:endParaRPr b="0" lang="en-US" sz="17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227640" y="291132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16365"/>
                </a:solidFill>
                <a:latin typeface="Arial"/>
              </a:rPr>
              <a:t>34</a:t>
            </a:r>
            <a:endParaRPr b="0" lang="en-US" sz="17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740720" y="394956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16365"/>
                </a:solidFill>
                <a:latin typeface="Arial"/>
              </a:rPr>
              <a:t>16</a:t>
            </a:r>
            <a:endParaRPr b="0" lang="en-US" sz="17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986760" y="5329080"/>
            <a:ext cx="13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Ascoltare musica 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453400" y="5329080"/>
            <a:ext cx="13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Andare al cinema e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654280" y="5529240"/>
            <a:ext cx="101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guardare film 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04720" y="5329080"/>
            <a:ext cx="113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Guardare la TV 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712480" y="5329080"/>
            <a:ext cx="96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Leggere libri 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138440" y="5329080"/>
            <a:ext cx="1090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Essere sempre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050240" y="5529240"/>
            <a:ext cx="130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informato (es. TG,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148520" y="5729400"/>
            <a:ext cx="1113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giornali, news) 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924360" y="1398600"/>
            <a:ext cx="123840" cy="1238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187520" y="13413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16365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22960" y="1398600"/>
            <a:ext cx="123840" cy="123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86120" y="13413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16365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2916360" y="2784600"/>
            <a:ext cx="1164960" cy="248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278320" y="3068640"/>
            <a:ext cx="1165320" cy="2200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-108000" y="114480"/>
            <a:ext cx="91440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82d1"/>
                </a:solidFill>
                <a:latin typeface="Arial"/>
              </a:rPr>
              <a:t>La lettura di libri</a:t>
            </a:r>
            <a:br>
              <a:rPr sz="3200"/>
            </a:b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84720" y="2637000"/>
            <a:ext cx="1008000" cy="287280"/>
          </a:xfrm>
          <a:prstGeom prst="line">
            <a:avLst/>
          </a:prstGeom>
          <a:ln w="34920">
            <a:solidFill>
              <a:srgbClr val="ec1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602136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Century Gothic"/>
              </a:rPr>
              <a:t>Base: Tot. Popolazione &gt; 14 anni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22880" y="1855800"/>
            <a:ext cx="12207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16365"/>
                </a:solidFill>
                <a:latin typeface="Arial"/>
              </a:rPr>
              <a:t>29 mil. di individui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43280" y="1557360"/>
            <a:ext cx="129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16365"/>
                </a:solidFill>
                <a:latin typeface="Arial"/>
              </a:rPr>
              <a:t>31 mil. di individui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473640" y="24112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16365"/>
                </a:solidFill>
                <a:latin typeface="Arial"/>
              </a:rPr>
              <a:t>60</a:t>
            </a:r>
            <a:endParaRPr b="0" lang="en-US" sz="1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724720" y="27082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16365"/>
                </a:solidFill>
                <a:latin typeface="Arial"/>
              </a:rPr>
              <a:t>56</a:t>
            </a:r>
            <a:endParaRPr b="0" lang="en-US" sz="1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185280" y="53737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580000" y="5373720"/>
            <a:ext cx="50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851280" y="1052640"/>
            <a:ext cx="20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7403a"/>
                </a:solidFill>
                <a:latin typeface="Arial"/>
              </a:rPr>
              <a:t>% lettori di almeno un libro negli ultimi 12 mesi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130560" y="907920"/>
            <a:ext cx="1440" cy="5129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78000" y="947880"/>
            <a:ext cx="8151480" cy="5128920"/>
          </a:xfrm>
          <a:prstGeom prst="rect">
            <a:avLst/>
          </a:prstGeom>
          <a:solidFill>
            <a:srgbClr val="99ccff">
              <a:alpha val="40000"/>
            </a:srgbClr>
          </a:solidFill>
          <a:ln w="255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635280" y="947880"/>
            <a:ext cx="1800" cy="512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78000" y="3860640"/>
            <a:ext cx="81514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3489480"/>
            <a:ext cx="1547640" cy="720720"/>
          </a:xfrm>
          <a:prstGeom prst="rect">
            <a:avLst/>
          </a:prstGeom>
          <a:solidFill>
            <a:srgbClr val="1e4fea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Tecnologia (-)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36800" y="5805360"/>
            <a:ext cx="1584360" cy="574920"/>
          </a:xfrm>
          <a:prstGeom prst="rect">
            <a:avLst/>
          </a:prstGeom>
          <a:solidFill>
            <a:srgbClr val="1e4fea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ultura (-)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846520" y="549360"/>
            <a:ext cx="1584360" cy="574560"/>
          </a:xfrm>
          <a:prstGeom prst="rect">
            <a:avLst/>
          </a:prstGeom>
          <a:solidFill>
            <a:srgbClr val="1e4fea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ultura (+)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596360" y="3519360"/>
            <a:ext cx="1547640" cy="720720"/>
          </a:xfrm>
          <a:prstGeom prst="rect">
            <a:avLst/>
          </a:prstGeom>
          <a:solidFill>
            <a:srgbClr val="1e4fea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Tecnologia (+)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rot="16200000">
            <a:off x="3395520" y="3597480"/>
            <a:ext cx="425520" cy="520560"/>
          </a:xfrm>
          <a:prstGeom prst="ellipse">
            <a:avLst/>
          </a:prstGeom>
          <a:solidFill>
            <a:srgbClr val="ff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2007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17" name="Rectangle 17"/>
          <p:cNvSpPr/>
          <p:nvPr/>
        </p:nvSpPr>
        <p:spPr>
          <a:xfrm>
            <a:off x="0" y="44280"/>
            <a:ext cx="9144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2d1"/>
                </a:solidFill>
                <a:latin typeface="Arial"/>
              </a:rPr>
              <a:t>Il baricentro della mappa nel 2007</a:t>
            </a:r>
            <a:endParaRPr b="0" lang="en-US" sz="2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96296E-006 L 0.05521 -0.00162 E">
                                      <p:cBhvr>
                                        <p:cTn id="40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85185E-006 L 0.00521 0.04213 E">
                                      <p:cBhvr>
                                        <p:cTn id="42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3130560" y="907920"/>
            <a:ext cx="1440" cy="5129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78000" y="947880"/>
            <a:ext cx="8151480" cy="5128920"/>
          </a:xfrm>
          <a:prstGeom prst="rect">
            <a:avLst/>
          </a:prstGeom>
          <a:solidFill>
            <a:srgbClr val="99ccff">
              <a:alpha val="40000"/>
            </a:srgbClr>
          </a:solidFill>
          <a:ln w="255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635280" y="947880"/>
            <a:ext cx="1800" cy="512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78000" y="3860640"/>
            <a:ext cx="81514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489480"/>
            <a:ext cx="1547640" cy="720720"/>
          </a:xfrm>
          <a:prstGeom prst="rect">
            <a:avLst/>
          </a:prstGeom>
          <a:solidFill>
            <a:srgbClr val="1e4fea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Tecnologia (-)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836800" y="5805360"/>
            <a:ext cx="1584360" cy="574920"/>
          </a:xfrm>
          <a:prstGeom prst="rect">
            <a:avLst/>
          </a:prstGeom>
          <a:solidFill>
            <a:srgbClr val="1e4fea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ultura (-)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846520" y="549360"/>
            <a:ext cx="1584360" cy="574560"/>
          </a:xfrm>
          <a:prstGeom prst="rect">
            <a:avLst/>
          </a:prstGeom>
          <a:solidFill>
            <a:srgbClr val="1e4fea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ultura (+)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596360" y="3519360"/>
            <a:ext cx="1547640" cy="720720"/>
          </a:xfrm>
          <a:prstGeom prst="rect">
            <a:avLst/>
          </a:prstGeom>
          <a:solidFill>
            <a:srgbClr val="1e4fea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Tecnologia (+)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rot="16200000">
            <a:off x="3395520" y="3597480"/>
            <a:ext cx="425520" cy="520560"/>
          </a:xfrm>
          <a:prstGeom prst="ellipse">
            <a:avLst/>
          </a:prstGeom>
          <a:solidFill>
            <a:srgbClr val="ff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2007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27" name="Rectangle 17"/>
          <p:cNvSpPr/>
          <p:nvPr/>
        </p:nvSpPr>
        <p:spPr>
          <a:xfrm>
            <a:off x="0" y="44280"/>
            <a:ext cx="9144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2d1"/>
                </a:solidFill>
                <a:latin typeface="Arial"/>
              </a:rPr>
              <a:t>2007-2009 lo spostamento del baricentro</a:t>
            </a:r>
            <a:endParaRPr b="0" lang="en-US" sz="2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10200" y="907920"/>
            <a:ext cx="1440" cy="5129280"/>
          </a:xfrm>
          <a:prstGeom prst="line">
            <a:avLst/>
          </a:prstGeom>
          <a:ln w="19080">
            <a:solidFill>
              <a:srgbClr val="f74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5280" y="4149720"/>
            <a:ext cx="8151840" cy="1440"/>
          </a:xfrm>
          <a:prstGeom prst="line">
            <a:avLst/>
          </a:prstGeom>
          <a:ln w="19080">
            <a:solidFill>
              <a:srgbClr val="f74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6200000">
            <a:off x="4027320" y="3892320"/>
            <a:ext cx="425520" cy="520920"/>
          </a:xfrm>
          <a:prstGeom prst="ellipse">
            <a:avLst/>
          </a:prstGeom>
          <a:solidFill>
            <a:srgbClr val="ff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2009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780000" y="3933720"/>
            <a:ext cx="215640" cy="142920"/>
          </a:xfrm>
          <a:prstGeom prst="line">
            <a:avLst/>
          </a:prstGeom>
          <a:ln w="9360">
            <a:solidFill>
              <a:srgbClr val="f74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96296E-006 L 0.05521 -0.00162 E">
                                      <p:cBhvr>
                                        <p:cTn id="48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85185E-006 L 0.00521 0.04213 E">
                                      <p:cBhvr>
                                        <p:cTn id="50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96296E-006 L 0.05521 -0.00162 E">
                                      <p:cBhvr>
                                        <p:cTn id="58" dur="2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85185E-006 L 0.00521 0.04213 E">
                                      <p:cBhvr>
                                        <p:cTn id="60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34920" y="571680"/>
            <a:ext cx="9090000" cy="5419440"/>
            <a:chOff x="34920" y="571680"/>
            <a:chExt cx="9090000" cy="5419440"/>
          </a:xfrm>
        </p:grpSpPr>
        <p:sp>
          <p:nvSpPr>
            <p:cNvPr id="533" name="Rectangle 3"/>
            <p:cNvSpPr/>
            <p:nvPr/>
          </p:nvSpPr>
          <p:spPr>
            <a:xfrm>
              <a:off x="890640" y="884160"/>
              <a:ext cx="7216560" cy="4857840"/>
            </a:xfrm>
            <a:prstGeom prst="rect">
              <a:avLst/>
            </a:prstGeom>
            <a:solidFill>
              <a:srgbClr val="0082d1">
                <a:alpha val="25000"/>
              </a:srgbClr>
            </a:solidFill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534" name="Line 4"/>
            <p:cNvSpPr/>
            <p:nvPr/>
          </p:nvSpPr>
          <p:spPr>
            <a:xfrm>
              <a:off x="3514680" y="884160"/>
              <a:ext cx="1800" cy="4857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535" name="Line 5"/>
            <p:cNvSpPr/>
            <p:nvPr/>
          </p:nvSpPr>
          <p:spPr>
            <a:xfrm>
              <a:off x="890640" y="3873600"/>
              <a:ext cx="721656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536" name="Rectangle 6"/>
            <p:cNvSpPr/>
            <p:nvPr/>
          </p:nvSpPr>
          <p:spPr>
            <a:xfrm>
              <a:off x="34920" y="3573360"/>
              <a:ext cx="1393920" cy="574920"/>
            </a:xfrm>
            <a:prstGeom prst="rect">
              <a:avLst/>
            </a:prstGeom>
            <a:solidFill>
              <a:srgbClr val="0082d1"/>
            </a:solidFill>
            <a:ln w="9360">
              <a:solidFill>
                <a:srgbClr val="6163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Tecnologia (-)</a:t>
              </a:r>
              <a:endParaRPr b="0" lang="en-US" sz="16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537" name="Rectangle 7"/>
            <p:cNvSpPr/>
            <p:nvPr/>
          </p:nvSpPr>
          <p:spPr>
            <a:xfrm>
              <a:off x="7731000" y="3568680"/>
              <a:ext cx="1393920" cy="574560"/>
            </a:xfrm>
            <a:prstGeom prst="rect">
              <a:avLst/>
            </a:prstGeom>
            <a:solidFill>
              <a:srgbClr val="0082d1"/>
            </a:solidFill>
            <a:ln w="9360">
              <a:solidFill>
                <a:srgbClr val="6163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Tecnologia (+)</a:t>
              </a:r>
              <a:endParaRPr b="0" lang="en-US" sz="16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538" name="Rectangle 8"/>
            <p:cNvSpPr/>
            <p:nvPr/>
          </p:nvSpPr>
          <p:spPr>
            <a:xfrm>
              <a:off x="2817720" y="5416560"/>
              <a:ext cx="1393920" cy="574560"/>
            </a:xfrm>
            <a:prstGeom prst="rect">
              <a:avLst/>
            </a:prstGeom>
            <a:solidFill>
              <a:srgbClr val="0082d1"/>
            </a:solidFill>
            <a:ln w="9360">
              <a:solidFill>
                <a:srgbClr val="6163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Cultura (-)</a:t>
              </a:r>
              <a:endParaRPr b="0" lang="en-US" sz="16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539" name="Rectangle 9"/>
            <p:cNvSpPr/>
            <p:nvPr/>
          </p:nvSpPr>
          <p:spPr>
            <a:xfrm>
              <a:off x="2830680" y="571680"/>
              <a:ext cx="1393560" cy="574560"/>
            </a:xfrm>
            <a:prstGeom prst="rect">
              <a:avLst/>
            </a:prstGeom>
            <a:solidFill>
              <a:srgbClr val="0082d1"/>
            </a:solidFill>
            <a:ln w="9360">
              <a:solidFill>
                <a:srgbClr val="6163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Cultura (+)</a:t>
              </a:r>
              <a:endParaRPr b="0" lang="en-US" sz="16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82d1"/>
                </a:solidFill>
                <a:latin typeface="Arial"/>
              </a:rPr>
              <a:t>Cluster</a:t>
            </a:r>
            <a:r>
              <a:rPr b="1" lang="it-IT" sz="3000" spc="-1" strike="noStrike">
                <a:solidFill>
                  <a:srgbClr val="0082d1"/>
                </a:solidFill>
                <a:latin typeface="Arial"/>
              </a:rPr>
              <a:t> 2007</a:t>
            </a:r>
            <a:endParaRPr b="0" lang="en-US" sz="30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541" name="Text Box 24"/>
          <p:cNvSpPr/>
          <p:nvPr/>
        </p:nvSpPr>
        <p:spPr>
          <a:xfrm>
            <a:off x="4572000" y="6064200"/>
            <a:ext cx="462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Tot. Popolazione con 14 anni o più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84360" y="981000"/>
            <a:ext cx="7129440" cy="4951440"/>
            <a:chOff x="684360" y="981000"/>
            <a:chExt cx="7129440" cy="4951440"/>
          </a:xfrm>
        </p:grpSpPr>
        <p:grpSp>
          <p:nvGrpSpPr>
            <p:cNvPr id="543" name=""/>
            <p:cNvGrpSpPr/>
            <p:nvPr/>
          </p:nvGrpSpPr>
          <p:grpSpPr>
            <a:xfrm>
              <a:off x="684360" y="981000"/>
              <a:ext cx="7129440" cy="4951440"/>
              <a:chOff x="684360" y="981000"/>
              <a:chExt cx="7129440" cy="4951440"/>
            </a:xfrm>
          </p:grpSpPr>
          <p:sp>
            <p:nvSpPr>
              <p:cNvPr id="544" name="Oval 13"/>
              <p:cNvSpPr/>
              <p:nvPr/>
            </p:nvSpPr>
            <p:spPr>
              <a:xfrm rot="16200000">
                <a:off x="2773440" y="1485360"/>
                <a:ext cx="1224000" cy="1513080"/>
              </a:xfrm>
              <a:prstGeom prst="ellipse">
                <a:avLst/>
              </a:prstGeom>
              <a:solidFill>
                <a:srgbClr val="800000">
                  <a:alpha val="51000"/>
                </a:srgbClr>
              </a:solidFill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ffffff"/>
                    </a:solidFill>
                    <a:latin typeface="Verdana"/>
                  </a:rPr>
                  <a:t>Sofisticati</a:t>
                </a:r>
                <a:endParaRPr b="0" lang="en-US" sz="20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ffffff"/>
                    </a:solidFill>
                    <a:latin typeface="Verdana"/>
                  </a:rPr>
                  <a:t>6.9 Mil.</a:t>
                </a:r>
                <a:endParaRPr b="0" lang="en-US" sz="20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ffffff"/>
                    </a:solidFill>
                    <a:latin typeface="Verdana"/>
                  </a:rPr>
                  <a:t>(13%)</a:t>
                </a:r>
                <a:endParaRPr b="0" lang="en-US" sz="20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684360" y="981000"/>
                <a:ext cx="7129440" cy="4951440"/>
                <a:chOff x="684360" y="981000"/>
                <a:chExt cx="7129440" cy="4951440"/>
              </a:xfrm>
            </p:grpSpPr>
            <p:grpSp>
              <p:nvGrpSpPr>
                <p:cNvPr id="546" name=""/>
                <p:cNvGrpSpPr/>
                <p:nvPr/>
              </p:nvGrpSpPr>
              <p:grpSpPr>
                <a:xfrm>
                  <a:off x="4718160" y="981000"/>
                  <a:ext cx="3095640" cy="4951440"/>
                  <a:chOff x="4718160" y="981000"/>
                  <a:chExt cx="3095640" cy="4951440"/>
                </a:xfrm>
              </p:grpSpPr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5510520" y="1196640"/>
                    <a:ext cx="2303280" cy="4735800"/>
                    <a:chOff x="5510520" y="1196640"/>
                    <a:chExt cx="2303280" cy="4735800"/>
                  </a:xfrm>
                </p:grpSpPr>
                <p:sp>
                  <p:nvSpPr>
                    <p:cNvPr id="548" name="Oval 15"/>
                    <p:cNvSpPr/>
                    <p:nvPr/>
                  </p:nvSpPr>
                  <p:spPr>
                    <a:xfrm rot="16200000">
                      <a:off x="6445440" y="1052280"/>
                      <a:ext cx="1224000" cy="1512720"/>
                    </a:xfrm>
                    <a:prstGeom prst="ellipse">
                      <a:avLst/>
                    </a:prstGeom>
                    <a:solidFill>
                      <a:srgbClr val="ff0000">
                        <a:alpha val="51000"/>
                      </a:srgbClr>
                    </a:solidFill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clettici</a:t>
                      </a:r>
                      <a:endParaRPr b="0" lang="en-US" sz="20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.4 Mil.</a:t>
                      </a:r>
                      <a:endParaRPr b="0" lang="en-US" sz="20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14%)</a:t>
                      </a:r>
                      <a:endParaRPr b="0" lang="en-US" sz="20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Oval 16"/>
                    <p:cNvSpPr/>
                    <p:nvPr/>
                  </p:nvSpPr>
                  <p:spPr>
                    <a:xfrm rot="16200000">
                      <a:off x="5662800" y="4357440"/>
                      <a:ext cx="1422720" cy="1727280"/>
                    </a:xfrm>
                    <a:prstGeom prst="ellipse">
                      <a:avLst/>
                    </a:prstGeom>
                    <a:solidFill>
                      <a:srgbClr val="ff9900">
                        <a:alpha val="51000"/>
                      </a:srgbClr>
                    </a:solidFill>
                    <a:ln w="255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chnofan</a:t>
                      </a:r>
                      <a:endParaRPr b="0" lang="en-US" sz="20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.9 mil.</a:t>
                      </a:r>
                      <a:endParaRPr b="0" lang="en-US" sz="20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17%)</a:t>
                      </a:r>
                      <a:endParaRPr b="0" lang="en-US" sz="2000" spc="-1" strike="noStrike">
                        <a:solidFill>
                          <a:srgbClr val="616365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0" name="Freeform 22"/>
                  <p:cNvSpPr/>
                  <p:nvPr/>
                </p:nvSpPr>
                <p:spPr>
                  <a:xfrm>
                    <a:off x="5018400" y="981000"/>
                    <a:ext cx="1571400" cy="4897440"/>
                  </a:xfrm>
                  <a:prstGeom prst="pie">
                    <a:avLst/>
                  </a:prstGeom>
                  <a:noFill/>
                  <a:ln w="31680">
                    <a:solidFill>
                      <a:srgbClr val="ff99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1636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Rectangle 23"/>
                  <p:cNvSpPr/>
                  <p:nvPr/>
                </p:nvSpPr>
                <p:spPr>
                  <a:xfrm>
                    <a:off x="4718160" y="3205080"/>
                    <a:ext cx="1656000" cy="792000"/>
                  </a:xfrm>
                  <a:prstGeom prst="rect">
                    <a:avLst/>
                  </a:prstGeom>
                  <a:solidFill>
                    <a:srgbClr val="ff99cc">
                      <a:alpha val="70000"/>
                    </a:srgbClr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ffffff"/>
                        </a:solidFill>
                        <a:latin typeface="Arial"/>
                      </a:rPr>
                      <a:t>Le avanguardie</a:t>
                    </a:r>
                    <a:endParaRPr b="0" lang="en-US" sz="1800" spc="-1" strike="noStrike">
                      <a:solidFill>
                        <a:srgbClr val="616365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ffffff"/>
                        </a:solidFill>
                        <a:latin typeface="Arial"/>
                      </a:rPr>
                      <a:t>tecnologiche</a:t>
                    </a:r>
                    <a:endParaRPr b="0" lang="en-US" sz="1800" spc="-1" strike="noStrike">
                      <a:solidFill>
                        <a:srgbClr val="616365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" name="Oval 11"/>
                <p:cNvSpPr/>
                <p:nvPr/>
              </p:nvSpPr>
              <p:spPr>
                <a:xfrm rot="16200000">
                  <a:off x="1154880" y="3824280"/>
                  <a:ext cx="1800360" cy="2160720"/>
                </a:xfrm>
                <a:prstGeom prst="ellipse">
                  <a:avLst/>
                </a:prstGeom>
                <a:solidFill>
                  <a:srgbClr val="99cc00">
                    <a:alpha val="51000"/>
                  </a:srgbClr>
                </a:solidFill>
                <a:ln w="2556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ffffff"/>
                      </a:solidFill>
                      <a:latin typeface="Verdana"/>
                    </a:rPr>
                    <a:t>TV People</a:t>
                  </a:r>
                  <a:br>
                    <a:rPr sz="2000"/>
                  </a:br>
                  <a:r>
                    <a:rPr b="0" lang="it-IT" sz="2000" spc="-1" strike="noStrike">
                      <a:solidFill>
                        <a:srgbClr val="ffffff"/>
                      </a:solidFill>
                      <a:latin typeface="Verdana"/>
                    </a:rPr>
                    <a:t>15.5 Mil.</a:t>
                  </a:r>
                  <a:endParaRPr b="0" lang="en-US" sz="2000" spc="-1" strike="noStrike">
                    <a:solidFill>
                      <a:srgbClr val="616365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ffffff"/>
                      </a:solidFill>
                      <a:latin typeface="Verdana"/>
                    </a:rPr>
                    <a:t>(31%)</a:t>
                  </a:r>
                  <a:endParaRPr b="0" lang="en-US" sz="2000" spc="-1" strike="noStrike">
                    <a:solidFill>
                      <a:srgbClr val="616365"/>
                    </a:solidFill>
                    <a:latin typeface="Arial"/>
                  </a:endParaRPr>
                </a:p>
              </p:txBody>
            </p:sp>
            <p:sp>
              <p:nvSpPr>
                <p:cNvPr id="553" name="Oval 12"/>
                <p:cNvSpPr/>
                <p:nvPr/>
              </p:nvSpPr>
              <p:spPr>
                <a:xfrm rot="16200000">
                  <a:off x="792360" y="2025360"/>
                  <a:ext cx="1728720" cy="1944720"/>
                </a:xfrm>
                <a:prstGeom prst="ellipse">
                  <a:avLst/>
                </a:prstGeom>
                <a:solidFill>
                  <a:srgbClr val="3366ff">
                    <a:alpha val="51000"/>
                  </a:srgbClr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ffffff"/>
                      </a:solidFill>
                      <a:latin typeface="Verdana"/>
                    </a:rPr>
                    <a:t>Tradizionalisti</a:t>
                  </a:r>
                  <a:endParaRPr b="0" lang="en-US" sz="2000" spc="-1" strike="noStrike">
                    <a:solidFill>
                      <a:srgbClr val="616365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ffffff"/>
                      </a:solidFill>
                      <a:latin typeface="Verdana"/>
                    </a:rPr>
                    <a:t>12.3 Mil.</a:t>
                  </a:r>
                  <a:endParaRPr b="0" lang="en-US" sz="2000" spc="-1" strike="noStrike">
                    <a:solidFill>
                      <a:srgbClr val="616365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ffffff"/>
                      </a:solidFill>
                      <a:latin typeface="Verdana"/>
                    </a:rPr>
                    <a:t>(24%)</a:t>
                  </a:r>
                  <a:endParaRPr b="0" lang="en-US" sz="2000" spc="-1" strike="noStrike">
                    <a:solidFill>
                      <a:srgbClr val="616365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19"/>
                <p:cNvSpPr/>
                <p:nvPr/>
              </p:nvSpPr>
              <p:spPr>
                <a:xfrm>
                  <a:off x="2052720" y="981000"/>
                  <a:ext cx="1860840" cy="4897440"/>
                </a:xfrm>
                <a:prstGeom prst="pie">
                  <a:avLst/>
                </a:prstGeom>
                <a:noFill/>
                <a:ln w="31680">
                  <a:solidFill>
                    <a:srgbClr val="cc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16365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5" name="Rectangle 20"/>
            <p:cNvSpPr/>
            <p:nvPr/>
          </p:nvSpPr>
          <p:spPr>
            <a:xfrm>
              <a:off x="3133800" y="3213000"/>
              <a:ext cx="1368720" cy="792000"/>
            </a:xfrm>
            <a:prstGeom prst="rect">
              <a:avLst/>
            </a:prstGeom>
            <a:solidFill>
              <a:srgbClr val="cc99ff">
                <a:alpha val="7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La matrice</a:t>
              </a:r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tradizionale</a:t>
              </a:r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351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2d1"/>
                </a:solidFill>
                <a:latin typeface="Arial"/>
              </a:rPr>
              <a:t>I cluster</a:t>
            </a:r>
            <a:endParaRPr b="0" lang="en-US" sz="28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6360" y="836280"/>
            <a:ext cx="91440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0">
              <a:lnSpc>
                <a:spcPct val="120000"/>
              </a:lnSpc>
              <a:spcAft>
                <a:spcPts val="201"/>
              </a:spcAft>
              <a:buNone/>
              <a:tabLst>
                <a:tab algn="l" pos="0"/>
                <a:tab algn="l" pos="126216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16365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616365"/>
                </a:solidFill>
                <a:latin typeface="Arial"/>
              </a:rPr>
              <a:t>Una visione integrata dei dati di scenario sulle nuove tecnologie e i consumi culturali identifica presso la popolazione italiana cinque aree distinte 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marL="169920" indent="-169920">
              <a:lnSpc>
                <a:spcPct val="120000"/>
              </a:lnSpc>
              <a:spcAft>
                <a:spcPts val="201"/>
              </a:spcAft>
              <a:buClr>
                <a:srgbClr val="616365"/>
              </a:buClr>
              <a:buFont typeface="Wingdings" charset="2"/>
              <a:buChar char=""/>
              <a:tabLst>
                <a:tab algn="l" pos="126216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16365"/>
                </a:solidFill>
                <a:latin typeface="Arial"/>
              </a:rPr>
              <a:t>un’area a massiccio consumo televisivo e bassa fruizione culturale </a:t>
            </a:r>
            <a:r>
              <a:rPr b="1" lang="it-IT" sz="1600" spc="-1" strike="noStrike">
                <a:solidFill>
                  <a:srgbClr val="f7403a"/>
                </a:solidFill>
                <a:latin typeface="Wingdings"/>
                <a:ea typeface="Wingdings"/>
              </a:rPr>
              <a:t></a:t>
            </a:r>
            <a:r>
              <a:rPr b="1" lang="it-IT" sz="1600" spc="-1" strike="noStrike">
                <a:solidFill>
                  <a:srgbClr val="f7403a"/>
                </a:solidFill>
                <a:latin typeface="Arial"/>
              </a:rPr>
              <a:t> TV People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marL="169920" indent="-169920">
              <a:lnSpc>
                <a:spcPct val="120000"/>
              </a:lnSpc>
              <a:spcAft>
                <a:spcPts val="201"/>
              </a:spcAft>
              <a:buClr>
                <a:srgbClr val="616365"/>
              </a:buClr>
              <a:buFont typeface="Wingdings" charset="2"/>
              <a:buChar char=""/>
              <a:tabLst>
                <a:tab algn="l" pos="126216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16365"/>
                </a:solidFill>
                <a:latin typeface="Arial"/>
              </a:rPr>
              <a:t>un’area a moderata fruizione culturale e utilizzo di tecnologie tradizionali </a:t>
            </a:r>
            <a:r>
              <a:rPr b="1" lang="it-IT" sz="1600" spc="-1" strike="noStrike">
                <a:solidFill>
                  <a:srgbClr val="f7403a"/>
                </a:solidFill>
                <a:latin typeface="Wingdings"/>
                <a:ea typeface="Wingdings"/>
              </a:rPr>
              <a:t></a:t>
            </a:r>
            <a:r>
              <a:rPr b="1" lang="it-IT" sz="1600" spc="-1" strike="noStrike">
                <a:solidFill>
                  <a:srgbClr val="f7403a"/>
                </a:solidFill>
                <a:latin typeface="Arial"/>
              </a:rPr>
              <a:t> Tradizionalisti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marL="169920" indent="-169920">
              <a:lnSpc>
                <a:spcPct val="120000"/>
              </a:lnSpc>
              <a:spcAft>
                <a:spcPts val="201"/>
              </a:spcAft>
              <a:buClr>
                <a:srgbClr val="616365"/>
              </a:buClr>
              <a:buFont typeface="Wingdings" charset="2"/>
              <a:buChar char=""/>
              <a:tabLst>
                <a:tab algn="l" pos="126216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16365"/>
                </a:solidFill>
                <a:latin typeface="Arial"/>
              </a:rPr>
              <a:t>un’area a forte fruizione di consumi culturali e moderata fruizione tecnologica </a:t>
            </a:r>
            <a:r>
              <a:rPr b="1" lang="it-IT" sz="1600" spc="-1" strike="noStrike">
                <a:solidFill>
                  <a:srgbClr val="f7403a"/>
                </a:solidFill>
                <a:latin typeface="Wingdings"/>
                <a:ea typeface="Wingdings"/>
              </a:rPr>
              <a:t></a:t>
            </a:r>
            <a:r>
              <a:rPr b="1" lang="it-IT" sz="1600" spc="-1" strike="noStrike">
                <a:solidFill>
                  <a:srgbClr val="f7403a"/>
                </a:solidFill>
                <a:latin typeface="Arial"/>
              </a:rPr>
              <a:t>Sofisticati</a:t>
            </a:r>
            <a:r>
              <a:rPr b="1" lang="it-IT" sz="1600" spc="-1" strike="noStrike">
                <a:solidFill>
                  <a:srgbClr val="616365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marL="169920" indent="-169920">
              <a:lnSpc>
                <a:spcPct val="120000"/>
              </a:lnSpc>
              <a:spcAft>
                <a:spcPts val="201"/>
              </a:spcAft>
              <a:buClr>
                <a:srgbClr val="616365"/>
              </a:buClr>
              <a:buFont typeface="Wingdings" charset="2"/>
              <a:buChar char=""/>
              <a:tabLst>
                <a:tab algn="l" pos="126216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16365"/>
                </a:solidFill>
                <a:latin typeface="Arial"/>
              </a:rPr>
              <a:t>un’area che unisce una forte attitudine alle nuove tecnologie ad una spiccata propensione al consumo di contenuti culturali e di intrattenimento, orientata a PC e web </a:t>
            </a:r>
            <a:r>
              <a:rPr b="1" lang="it-IT" sz="1600" spc="-1" strike="noStrike">
                <a:solidFill>
                  <a:srgbClr val="f7403a"/>
                </a:solidFill>
                <a:latin typeface="Wingdings"/>
                <a:ea typeface="Wingdings"/>
              </a:rPr>
              <a:t></a:t>
            </a:r>
            <a:r>
              <a:rPr b="1" lang="it-IT" sz="1600" spc="-1" strike="noStrike">
                <a:solidFill>
                  <a:srgbClr val="f7403a"/>
                </a:solidFill>
                <a:latin typeface="Arial"/>
              </a:rPr>
              <a:t> Eclettici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marL="169920" indent="-169920">
              <a:lnSpc>
                <a:spcPct val="120000"/>
              </a:lnSpc>
              <a:spcAft>
                <a:spcPts val="201"/>
              </a:spcAft>
              <a:buClr>
                <a:srgbClr val="616365"/>
              </a:buClr>
              <a:buFont typeface="Wingdings" charset="2"/>
              <a:buChar char=""/>
              <a:tabLst>
                <a:tab algn="l" pos="126216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16365"/>
                </a:solidFill>
                <a:latin typeface="Arial"/>
              </a:rPr>
              <a:t>un’altra area fortemente tecnologica orientata alla fruizione esclusivamente ludica delle  nuove tecnologie </a:t>
            </a:r>
            <a:r>
              <a:rPr b="1" lang="it-IT" sz="1600" spc="-1" strike="noStrike">
                <a:solidFill>
                  <a:srgbClr val="f7403a"/>
                </a:solidFill>
                <a:latin typeface="Wingdings"/>
                <a:ea typeface="Wingdings"/>
              </a:rPr>
              <a:t></a:t>
            </a:r>
            <a:r>
              <a:rPr b="1" lang="it-IT" sz="1600" spc="-1" strike="noStrike">
                <a:solidFill>
                  <a:srgbClr val="f7403a"/>
                </a:solidFill>
                <a:latin typeface="Arial"/>
              </a:rPr>
              <a:t> Technofan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marL="169920" indent="0">
              <a:lnSpc>
                <a:spcPct val="110000"/>
              </a:lnSpc>
              <a:spcAft>
                <a:spcPts val="201"/>
              </a:spcAft>
              <a:buNone/>
              <a:tabLst>
                <a:tab algn="l" pos="126216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924360" y="3429000"/>
            <a:ext cx="79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59" name="Segnaposto testo 2"/>
          <p:cNvSpPr/>
          <p:nvPr/>
        </p:nvSpPr>
        <p:spPr>
          <a:xfrm>
            <a:off x="0" y="3584520"/>
            <a:ext cx="914400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110000"/>
              </a:lnSpc>
              <a:spcAft>
                <a:spcPts val="201"/>
              </a:spcAft>
              <a:tabLst>
                <a:tab algn="l" pos="0"/>
                <a:tab algn="l" pos="126216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marL="169920" indent="-169920">
              <a:lnSpc>
                <a:spcPct val="120000"/>
              </a:lnSpc>
              <a:spcAft>
                <a:spcPts val="201"/>
              </a:spcAft>
              <a:buClr>
                <a:srgbClr val="616365"/>
              </a:buClr>
              <a:buFont typeface="Wingdings" charset="2"/>
              <a:buChar char=""/>
              <a:tabLst>
                <a:tab algn="l" pos="126216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16365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616365"/>
                </a:solidFill>
                <a:latin typeface="Arial"/>
              </a:rPr>
              <a:t>Il 30 % della popolazione con maggiore attitudine tecnologica (Eclettici e Technofan) si divide in due sotto-gruppi affini sotto il profilo sociodemografico, ma estremamente disomogenei dal punto di vista dei consumi culturali (differenze più marcate rispetto a quelle che si notano sui gruppi tecnologicamente meno avanzati)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marL="169920" indent="-169920">
              <a:lnSpc>
                <a:spcPct val="120000"/>
              </a:lnSpc>
              <a:spcAft>
                <a:spcPts val="201"/>
              </a:spcAft>
              <a:buClr>
                <a:srgbClr val="616365"/>
              </a:buClr>
              <a:buFont typeface="Wingdings" charset="2"/>
              <a:buChar char=""/>
              <a:tabLst>
                <a:tab algn="l" pos="126216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7403a"/>
                </a:solidFill>
                <a:latin typeface="Arial"/>
              </a:rPr>
              <a:t>Le variabili classiche di segmentazione non sono sufficienti </a:t>
            </a:r>
            <a:r>
              <a:rPr b="1" lang="it-IT" sz="1600" spc="-1" strike="noStrike">
                <a:solidFill>
                  <a:srgbClr val="616365"/>
                </a:solidFill>
                <a:latin typeface="Arial"/>
              </a:rPr>
              <a:t>ad interpretare</a:t>
            </a:r>
            <a:r>
              <a:rPr b="1" lang="it-IT" sz="1600" spc="-1" strike="noStrike">
                <a:solidFill>
                  <a:srgbClr val="f7403a"/>
                </a:solidFill>
                <a:latin typeface="Arial"/>
              </a:rPr>
              <a:t> la relazione fra attitudine tecnologica e fruizione di contenuti culturali </a:t>
            </a:r>
            <a:r>
              <a:rPr b="1" lang="it-IT" sz="1600" spc="-1" strike="noStrike">
                <a:solidFill>
                  <a:srgbClr val="616365"/>
                </a:solidFill>
                <a:latin typeface="Arial"/>
              </a:rPr>
              <a:t>e d’intrattenimento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marL="169920" indent="-169920">
              <a:lnSpc>
                <a:spcPct val="120000"/>
              </a:lnSpc>
              <a:spcAft>
                <a:spcPts val="201"/>
              </a:spcAft>
              <a:buClr>
                <a:srgbClr val="616365"/>
              </a:buClr>
              <a:buFont typeface="Wingdings" charset="2"/>
              <a:buChar char=""/>
              <a:tabLst>
                <a:tab algn="l" pos="126216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16365"/>
                </a:solidFill>
                <a:latin typeface="Arial"/>
              </a:rPr>
              <a:t>Rispetto ai media tradizionali,</a:t>
            </a:r>
            <a:r>
              <a:rPr b="1" lang="it-IT" sz="1600" spc="-1" strike="noStrike">
                <a:solidFill>
                  <a:srgbClr val="f7403a"/>
                </a:solidFill>
                <a:latin typeface="Arial"/>
              </a:rPr>
              <a:t> le nuove tecnologie tendono ad amplificare le differenze in termini di attitudine ai consumi culturali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3"/>
          <p:cNvSpPr/>
          <p:nvPr/>
        </p:nvSpPr>
        <p:spPr>
          <a:xfrm>
            <a:off x="1130400" y="884160"/>
            <a:ext cx="7216560" cy="4857840"/>
          </a:xfrm>
          <a:prstGeom prst="rect">
            <a:avLst/>
          </a:prstGeom>
          <a:solidFill>
            <a:srgbClr val="0082d1">
              <a:alpha val="25000"/>
            </a:srgbClr>
          </a:solidFill>
          <a:ln w="158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61" name="Line 4"/>
          <p:cNvSpPr/>
          <p:nvPr/>
        </p:nvSpPr>
        <p:spPr>
          <a:xfrm>
            <a:off x="3754440" y="884160"/>
            <a:ext cx="1440" cy="4857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1130400" y="3873600"/>
            <a:ext cx="721656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0" y="3645000"/>
            <a:ext cx="1393920" cy="360360"/>
          </a:xfrm>
          <a:prstGeom prst="rect">
            <a:avLst/>
          </a:prstGeom>
          <a:solidFill>
            <a:srgbClr val="0082d1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Tecnologia (-)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7750080" y="3716280"/>
            <a:ext cx="1393920" cy="360360"/>
          </a:xfrm>
          <a:prstGeom prst="rect">
            <a:avLst/>
          </a:prstGeom>
          <a:solidFill>
            <a:srgbClr val="0082d1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Tecnologia (+)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2916360" y="5877000"/>
            <a:ext cx="1393560" cy="358560"/>
          </a:xfrm>
          <a:prstGeom prst="rect">
            <a:avLst/>
          </a:prstGeom>
          <a:solidFill>
            <a:srgbClr val="0082d1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Cultura (-)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66" name="Rectangle 9"/>
          <p:cNvSpPr/>
          <p:nvPr/>
        </p:nvSpPr>
        <p:spPr>
          <a:xfrm>
            <a:off x="3070080" y="571680"/>
            <a:ext cx="1393920" cy="336240"/>
          </a:xfrm>
          <a:prstGeom prst="rect">
            <a:avLst/>
          </a:prstGeom>
          <a:solidFill>
            <a:srgbClr val="0082d1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Cultura (+)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4572000" y="6137280"/>
            <a:ext cx="462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Tot. Popolazione con 14 anni o più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68" name="Rectangle 17"/>
          <p:cNvSpPr/>
          <p:nvPr/>
        </p:nvSpPr>
        <p:spPr>
          <a:xfrm>
            <a:off x="0" y="-27000"/>
            <a:ext cx="9144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82d1"/>
                </a:solidFill>
                <a:latin typeface="Arial"/>
              </a:rPr>
              <a:t>Le passioni della vita</a:t>
            </a:r>
            <a:br>
              <a:rPr sz="3000"/>
            </a:br>
            <a:r>
              <a:rPr b="1" i="1" lang="it-IT" sz="1800" spc="-1" strike="noStrike">
                <a:solidFill>
                  <a:srgbClr val="0082d1"/>
                </a:solidFill>
                <a:latin typeface="Arial"/>
              </a:rPr>
              <a:t>(indice di scostamento vs media Italia)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508720" y="1052640"/>
          <a:ext cx="292896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1052640"/>
                    <a:ext cx="292896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4932360" y="3789360"/>
          <a:ext cx="2928960" cy="21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3789360"/>
                    <a:ext cx="292896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"/>
          <p:cNvGraphicFramePr/>
          <p:nvPr/>
        </p:nvGraphicFramePr>
        <p:xfrm>
          <a:off x="1187280" y="3789360"/>
          <a:ext cx="2928960" cy="211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3789360"/>
                    <a:ext cx="292896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0" y="1628640"/>
          <a:ext cx="2928960" cy="211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628640"/>
                    <a:ext cx="2928960" cy="21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2627280" y="1125360"/>
          <a:ext cx="2928960" cy="211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7280" y="1125360"/>
                    <a:ext cx="2928960" cy="21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"/>
          <p:cNvSpPr/>
          <p:nvPr/>
        </p:nvSpPr>
        <p:spPr>
          <a:xfrm>
            <a:off x="7022160" y="765000"/>
            <a:ext cx="966960" cy="368280"/>
          </a:xfrm>
          <a:prstGeom prst="rect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clettici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059720" y="836640"/>
            <a:ext cx="1157760" cy="368280"/>
          </a:xfrm>
          <a:prstGeom prst="rect">
            <a:avLst/>
          </a:prstGeom>
          <a:solidFill>
            <a:srgbClr val="9933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ofisticati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119600" y="1341360"/>
            <a:ext cx="1573560" cy="368280"/>
          </a:xfrm>
          <a:prstGeom prst="rect">
            <a:avLst/>
          </a:prstGeom>
          <a:solidFill>
            <a:srgbClr val="000099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radizionalisti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558520" y="3573360"/>
            <a:ext cx="124596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V People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406560" y="3500280"/>
            <a:ext cx="1258200" cy="368280"/>
          </a:xfrm>
          <a:prstGeom prst="rect">
            <a:avLst/>
          </a:prstGeom>
          <a:solidFill>
            <a:srgbClr val="ff99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echnofan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3"/>
          <p:cNvSpPr/>
          <p:nvPr/>
        </p:nvSpPr>
        <p:spPr>
          <a:xfrm>
            <a:off x="819000" y="884160"/>
            <a:ext cx="7216920" cy="4857840"/>
          </a:xfrm>
          <a:prstGeom prst="rect">
            <a:avLst/>
          </a:prstGeom>
          <a:solidFill>
            <a:srgbClr val="0082d1">
              <a:alpha val="25000"/>
            </a:srgbClr>
          </a:solidFill>
          <a:ln w="158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3443400" y="884160"/>
            <a:ext cx="1440" cy="4857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86" name="Line 5"/>
          <p:cNvSpPr/>
          <p:nvPr/>
        </p:nvSpPr>
        <p:spPr>
          <a:xfrm>
            <a:off x="819000" y="3873600"/>
            <a:ext cx="7216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-36360" y="3573360"/>
            <a:ext cx="1393560" cy="574920"/>
          </a:xfrm>
          <a:prstGeom prst="rect">
            <a:avLst/>
          </a:prstGeom>
          <a:solidFill>
            <a:srgbClr val="0082d1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Tecnologia (-)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7659720" y="3568680"/>
            <a:ext cx="1393920" cy="574560"/>
          </a:xfrm>
          <a:prstGeom prst="rect">
            <a:avLst/>
          </a:prstGeom>
          <a:solidFill>
            <a:srgbClr val="0082d1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Tecnologia (+)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2771640" y="5805360"/>
            <a:ext cx="1393920" cy="330480"/>
          </a:xfrm>
          <a:prstGeom prst="rect">
            <a:avLst/>
          </a:prstGeom>
          <a:solidFill>
            <a:srgbClr val="0082d1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Cultura (-)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2759040" y="571680"/>
            <a:ext cx="1393920" cy="336240"/>
          </a:xfrm>
          <a:prstGeom prst="rect">
            <a:avLst/>
          </a:prstGeom>
          <a:solidFill>
            <a:srgbClr val="0082d1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Cultura (+)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91" name="Text Box 24"/>
          <p:cNvSpPr/>
          <p:nvPr/>
        </p:nvSpPr>
        <p:spPr>
          <a:xfrm>
            <a:off x="4572000" y="6000840"/>
            <a:ext cx="462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Century Gothic"/>
              </a:rPr>
              <a:t>Base: Tot. Popolazione con 14 anni o più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92" name="Rectangle 17"/>
          <p:cNvSpPr/>
          <p:nvPr/>
        </p:nvSpPr>
        <p:spPr>
          <a:xfrm>
            <a:off x="0" y="-27000"/>
            <a:ext cx="9144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82d1"/>
                </a:solidFill>
                <a:latin typeface="Arial"/>
              </a:rPr>
              <a:t>Acquisto di almeno 1 contenuto</a:t>
            </a:r>
            <a:br>
              <a:rPr sz="3000"/>
            </a:br>
            <a:r>
              <a:rPr b="1" i="1" lang="it-IT" sz="1800" spc="-1" strike="noStrike">
                <a:solidFill>
                  <a:srgbClr val="0082d1"/>
                </a:solidFill>
                <a:latin typeface="Arial"/>
              </a:rPr>
              <a:t>(indice di scostamento vs media Italia)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5292720" y="934920"/>
          <a:ext cx="3251160" cy="23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934920"/>
                    <a:ext cx="325116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5580000" y="3645000"/>
          <a:ext cx="3251160" cy="23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3645000"/>
                    <a:ext cx="325116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1332000" y="3500280"/>
          <a:ext cx="3251160" cy="234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500280"/>
                    <a:ext cx="325116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684360" y="1413000"/>
          <a:ext cx="3251160" cy="23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1413000"/>
                    <a:ext cx="325116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2473200" y="1079640"/>
          <a:ext cx="3251160" cy="234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73200" y="1079640"/>
                    <a:ext cx="325116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"/>
          <p:cNvSpPr/>
          <p:nvPr/>
        </p:nvSpPr>
        <p:spPr>
          <a:xfrm>
            <a:off x="6518880" y="765000"/>
            <a:ext cx="966960" cy="368280"/>
          </a:xfrm>
          <a:prstGeom prst="rect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clettici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710520" y="907920"/>
            <a:ext cx="1157760" cy="368280"/>
          </a:xfrm>
          <a:prstGeom prst="rect">
            <a:avLst/>
          </a:prstGeom>
          <a:solidFill>
            <a:srgbClr val="9933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ofisticati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75240" y="1197000"/>
            <a:ext cx="1573560" cy="368280"/>
          </a:xfrm>
          <a:prstGeom prst="rect">
            <a:avLst/>
          </a:prstGeom>
          <a:solidFill>
            <a:srgbClr val="000099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radizionalisti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342520" y="3357720"/>
            <a:ext cx="124596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V People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406560" y="3500280"/>
            <a:ext cx="1258200" cy="368280"/>
          </a:xfrm>
          <a:prstGeom prst="rect">
            <a:avLst/>
          </a:prstGeom>
          <a:solidFill>
            <a:srgbClr val="ff99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echnofan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3"/>
          <p:cNvSpPr/>
          <p:nvPr/>
        </p:nvSpPr>
        <p:spPr>
          <a:xfrm>
            <a:off x="826920" y="1125360"/>
            <a:ext cx="7216920" cy="4857840"/>
          </a:xfrm>
          <a:prstGeom prst="rect">
            <a:avLst/>
          </a:prstGeom>
          <a:solidFill>
            <a:srgbClr val="0082d1">
              <a:alpha val="25000"/>
            </a:srgbClr>
          </a:solidFill>
          <a:ln w="158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09" name="Line 4"/>
          <p:cNvSpPr/>
          <p:nvPr/>
        </p:nvSpPr>
        <p:spPr>
          <a:xfrm>
            <a:off x="3443400" y="1130400"/>
            <a:ext cx="1440" cy="4857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10" name="Line 5"/>
          <p:cNvSpPr/>
          <p:nvPr/>
        </p:nvSpPr>
        <p:spPr>
          <a:xfrm>
            <a:off x="819000" y="4119480"/>
            <a:ext cx="72169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-36360" y="3819600"/>
            <a:ext cx="1393560" cy="574560"/>
          </a:xfrm>
          <a:prstGeom prst="rect">
            <a:avLst/>
          </a:prstGeom>
          <a:solidFill>
            <a:srgbClr val="0082d1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Tecnologia (-)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7659720" y="3814920"/>
            <a:ext cx="1393920" cy="574560"/>
          </a:xfrm>
          <a:prstGeom prst="rect">
            <a:avLst/>
          </a:prstGeom>
          <a:solidFill>
            <a:srgbClr val="0082d1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Tecnologia (+)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13" name="Rectangle 8"/>
          <p:cNvSpPr/>
          <p:nvPr/>
        </p:nvSpPr>
        <p:spPr>
          <a:xfrm>
            <a:off x="2746440" y="5662440"/>
            <a:ext cx="1393920" cy="574920"/>
          </a:xfrm>
          <a:prstGeom prst="rect">
            <a:avLst/>
          </a:prstGeom>
          <a:solidFill>
            <a:srgbClr val="0082d1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Cultura (-)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2759040" y="817560"/>
            <a:ext cx="1393920" cy="574560"/>
          </a:xfrm>
          <a:prstGeom prst="rect">
            <a:avLst/>
          </a:prstGeom>
          <a:solidFill>
            <a:srgbClr val="0082d1"/>
          </a:solid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Cultura (+)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4572000" y="6064200"/>
            <a:ext cx="462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Tot. Popolazione con 14 anni o più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16" name="Rectangle 17"/>
          <p:cNvSpPr/>
          <p:nvPr/>
        </p:nvSpPr>
        <p:spPr>
          <a:xfrm>
            <a:off x="0" y="-27000"/>
            <a:ext cx="9144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82d1"/>
                </a:solidFill>
                <a:latin typeface="Arial"/>
              </a:rPr>
              <a:t>Cluster</a:t>
            </a:r>
            <a:r>
              <a:rPr b="1" lang="it-IT" sz="2800" spc="-1" strike="noStrike">
                <a:solidFill>
                  <a:srgbClr val="0082d1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82d1"/>
                </a:solidFill>
                <a:latin typeface="Arial"/>
              </a:rPr>
              <a:t>2009</a:t>
            </a:r>
            <a:r>
              <a:rPr b="1" lang="it-IT" sz="2800" spc="-1" strike="noStrike">
                <a:solidFill>
                  <a:srgbClr val="0082d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17" name="Oval 13"/>
          <p:cNvSpPr/>
          <p:nvPr/>
        </p:nvSpPr>
        <p:spPr>
          <a:xfrm rot="16200000">
            <a:off x="2771640" y="1268280"/>
            <a:ext cx="1224000" cy="1513080"/>
          </a:xfrm>
          <a:prstGeom prst="ellipse">
            <a:avLst/>
          </a:prstGeom>
          <a:solidFill>
            <a:srgbClr val="800000">
              <a:alpha val="51000"/>
            </a:srgbClr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Sofisticati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5.3 Mil.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10%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84360" y="981000"/>
            <a:ext cx="7129440" cy="4951440"/>
            <a:chOff x="684360" y="981000"/>
            <a:chExt cx="7129440" cy="4951440"/>
          </a:xfrm>
        </p:grpSpPr>
        <p:grpSp>
          <p:nvGrpSpPr>
            <p:cNvPr id="619" name=""/>
            <p:cNvGrpSpPr/>
            <p:nvPr/>
          </p:nvGrpSpPr>
          <p:grpSpPr>
            <a:xfrm>
              <a:off x="4718160" y="981000"/>
              <a:ext cx="3095640" cy="4951440"/>
              <a:chOff x="4718160" y="981000"/>
              <a:chExt cx="3095640" cy="495144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5510520" y="1196640"/>
                <a:ext cx="2303280" cy="4735800"/>
                <a:chOff x="5510520" y="1196640"/>
                <a:chExt cx="2303280" cy="4735800"/>
              </a:xfrm>
            </p:grpSpPr>
            <p:sp>
              <p:nvSpPr>
                <p:cNvPr id="621" name="Oval 15"/>
                <p:cNvSpPr/>
                <p:nvPr/>
              </p:nvSpPr>
              <p:spPr>
                <a:xfrm rot="16200000">
                  <a:off x="6445440" y="1052280"/>
                  <a:ext cx="1224000" cy="1512720"/>
                </a:xfrm>
                <a:prstGeom prst="ellipse">
                  <a:avLst/>
                </a:prstGeom>
                <a:solidFill>
                  <a:srgbClr val="ff0000">
                    <a:alpha val="51000"/>
                  </a:srgbClr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ffffff"/>
                      </a:solidFill>
                      <a:latin typeface="Verdana"/>
                    </a:rPr>
                    <a:t>Eclettici</a:t>
                  </a:r>
                  <a:endParaRPr b="0" lang="en-US" sz="2000" spc="-1" strike="noStrike">
                    <a:solidFill>
                      <a:srgbClr val="616365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ffffff"/>
                      </a:solidFill>
                      <a:latin typeface="Verdana"/>
                    </a:rPr>
                    <a:t>6.5 Mil.</a:t>
                  </a:r>
                  <a:endParaRPr b="0" lang="en-US" sz="2000" spc="-1" strike="noStrike">
                    <a:solidFill>
                      <a:srgbClr val="616365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ffffff"/>
                      </a:solidFill>
                      <a:latin typeface="Verdana"/>
                    </a:rPr>
                    <a:t>12%</a:t>
                  </a:r>
                  <a:endParaRPr b="0" lang="en-US" sz="2000" spc="-1" strike="noStrike">
                    <a:solidFill>
                      <a:srgbClr val="616365"/>
                    </a:solidFill>
                    <a:latin typeface="Arial"/>
                  </a:endParaRPr>
                </a:p>
              </p:txBody>
            </p:sp>
            <p:sp>
              <p:nvSpPr>
                <p:cNvPr id="622" name="Oval 16"/>
                <p:cNvSpPr/>
                <p:nvPr/>
              </p:nvSpPr>
              <p:spPr>
                <a:xfrm rot="16200000">
                  <a:off x="5662800" y="4357440"/>
                  <a:ext cx="1422720" cy="1727280"/>
                </a:xfrm>
                <a:prstGeom prst="ellipse">
                  <a:avLst/>
                </a:prstGeom>
                <a:solidFill>
                  <a:srgbClr val="ff9900">
                    <a:alpha val="51000"/>
                  </a:srgbClr>
                </a:solidFill>
                <a:ln w="255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ffffff"/>
                      </a:solidFill>
                      <a:latin typeface="Verdana"/>
                    </a:rPr>
                    <a:t>Technofan</a:t>
                  </a:r>
                  <a:endParaRPr b="0" lang="en-US" sz="2000" spc="-1" strike="noStrike">
                    <a:solidFill>
                      <a:srgbClr val="616365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ffffff"/>
                      </a:solidFill>
                      <a:latin typeface="Verdana"/>
                    </a:rPr>
                    <a:t>13.9 mil.</a:t>
                  </a:r>
                  <a:endParaRPr b="0" lang="en-US" sz="2000" spc="-1" strike="noStrike">
                    <a:solidFill>
                      <a:srgbClr val="616365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ffffff"/>
                      </a:solidFill>
                      <a:latin typeface="Verdana"/>
                    </a:rPr>
                    <a:t>27%</a:t>
                  </a:r>
                  <a:endParaRPr b="0" lang="en-US" sz="2000" spc="-1" strike="noStrike">
                    <a:solidFill>
                      <a:srgbClr val="616365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Freeform 22"/>
              <p:cNvSpPr/>
              <p:nvPr/>
            </p:nvSpPr>
            <p:spPr>
              <a:xfrm>
                <a:off x="5018400" y="981000"/>
                <a:ext cx="1571400" cy="4897440"/>
              </a:xfrm>
              <a:prstGeom prst="pie">
                <a:avLst/>
              </a:prstGeom>
              <a:noFill/>
              <a:ln w="31680">
                <a:solidFill>
                  <a:srgbClr val="ff99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  <p:sp>
            <p:nvSpPr>
              <p:cNvPr id="624" name="Rectangle 23"/>
              <p:cNvSpPr/>
              <p:nvPr/>
            </p:nvSpPr>
            <p:spPr>
              <a:xfrm>
                <a:off x="4718160" y="3205080"/>
                <a:ext cx="1656000" cy="792000"/>
              </a:xfrm>
              <a:prstGeom prst="rect">
                <a:avLst/>
              </a:prstGeom>
              <a:solidFill>
                <a:srgbClr val="ff99cc">
                  <a:alpha val="7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Arial"/>
                  </a:rPr>
                  <a:t>Le avanguardie</a:t>
                </a:r>
                <a:endParaRPr b="0" lang="en-US" sz="1800" spc="-1" strike="noStrike">
                  <a:solidFill>
                    <a:srgbClr val="616365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Arial"/>
                  </a:rPr>
                  <a:t>tecnologiche</a:t>
                </a:r>
                <a:endParaRPr b="0" lang="en-US" sz="1800" spc="-1" strike="noStrike">
                  <a:solidFill>
                    <a:srgbClr val="616365"/>
                  </a:solidFill>
                  <a:latin typeface="Arial"/>
                </a:endParaRPr>
              </a:p>
            </p:txBody>
          </p:sp>
        </p:grpSp>
        <p:sp>
          <p:nvSpPr>
            <p:cNvPr id="625" name="Oval 11"/>
            <p:cNvSpPr/>
            <p:nvPr/>
          </p:nvSpPr>
          <p:spPr>
            <a:xfrm rot="16200000">
              <a:off x="1154880" y="3824280"/>
              <a:ext cx="1800360" cy="2160720"/>
            </a:xfrm>
            <a:prstGeom prst="ellipse">
              <a:avLst/>
            </a:prstGeom>
            <a:solidFill>
              <a:srgbClr val="99cc00">
                <a:alpha val="51000"/>
              </a:srgbClr>
            </a:solidFill>
            <a:ln w="255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Verdana"/>
                </a:rPr>
                <a:t>TV People</a:t>
              </a:r>
              <a:br>
                <a:rPr sz="2000"/>
              </a:br>
              <a:r>
                <a:rPr b="0" lang="it-IT" sz="2000" spc="-1" strike="noStrike">
                  <a:solidFill>
                    <a:srgbClr val="ffffff"/>
                  </a:solidFill>
                  <a:latin typeface="Verdana"/>
                </a:rPr>
                <a:t>14.7 Mil.</a:t>
              </a:r>
              <a:endParaRPr b="0" lang="en-US" sz="2000" spc="-1" strike="noStrike">
                <a:solidFill>
                  <a:srgbClr val="61636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Verdana"/>
                </a:rPr>
                <a:t>28%</a:t>
              </a:r>
              <a:endParaRPr b="0" lang="en-US" sz="20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626" name="Oval 12"/>
            <p:cNvSpPr/>
            <p:nvPr/>
          </p:nvSpPr>
          <p:spPr>
            <a:xfrm rot="16200000">
              <a:off x="792360" y="2025360"/>
              <a:ext cx="1728720" cy="1944720"/>
            </a:xfrm>
            <a:prstGeom prst="ellipse">
              <a:avLst/>
            </a:prstGeom>
            <a:solidFill>
              <a:srgbClr val="3366ff">
                <a:alpha val="51000"/>
              </a:srgbClr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Verdana"/>
                </a:rPr>
                <a:t>Tradizionalisti</a:t>
              </a:r>
              <a:endParaRPr b="0" lang="en-US" sz="2000" spc="-1" strike="noStrike">
                <a:solidFill>
                  <a:srgbClr val="61636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Verdana"/>
                </a:rPr>
                <a:t>11.6 Mil.</a:t>
              </a:r>
              <a:endParaRPr b="0" lang="en-US" sz="2000" spc="-1" strike="noStrike">
                <a:solidFill>
                  <a:srgbClr val="616365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ffffff"/>
                  </a:solidFill>
                  <a:latin typeface="Verdana"/>
                </a:rPr>
                <a:t>22%</a:t>
              </a:r>
              <a:endParaRPr b="0" lang="en-US" sz="20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627" name="Freeform 19"/>
            <p:cNvSpPr/>
            <p:nvPr/>
          </p:nvSpPr>
          <p:spPr>
            <a:xfrm>
              <a:off x="2052720" y="981000"/>
              <a:ext cx="1860840" cy="4897440"/>
            </a:xfrm>
            <a:prstGeom prst="pie">
              <a:avLst/>
            </a:prstGeom>
            <a:noFill/>
            <a:ln w="31680">
              <a:solidFill>
                <a:srgbClr val="cc99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sp>
        <p:nvSpPr>
          <p:cNvPr id="628" name="Rectangle 20"/>
          <p:cNvSpPr/>
          <p:nvPr/>
        </p:nvSpPr>
        <p:spPr>
          <a:xfrm>
            <a:off x="3133800" y="3213000"/>
            <a:ext cx="1368360" cy="792360"/>
          </a:xfrm>
          <a:prstGeom prst="rect">
            <a:avLst/>
          </a:prstGeom>
          <a:solidFill>
            <a:srgbClr val="cc99f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a matrice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radizionale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588000" y="2349360"/>
            <a:ext cx="865440" cy="648000"/>
          </a:xfrm>
          <a:prstGeom prst="ellipse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-2%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938920" y="5589720"/>
            <a:ext cx="865080" cy="647640"/>
          </a:xfrm>
          <a:prstGeom prst="ellipse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+10%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547640" y="5445000"/>
            <a:ext cx="865440" cy="648000"/>
          </a:xfrm>
          <a:prstGeom prst="ellipse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-3%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116000" y="3429000"/>
            <a:ext cx="865080" cy="647640"/>
          </a:xfrm>
          <a:prstGeom prst="ellipse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-2%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916360" y="2492280"/>
            <a:ext cx="865080" cy="647640"/>
          </a:xfrm>
          <a:prstGeom prst="ellipse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-3%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8964720" cy="6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2d1"/>
                </a:solidFill>
                <a:latin typeface="Arial"/>
              </a:rPr>
              <a:t>Le community</a:t>
            </a:r>
            <a:endParaRPr b="0" lang="en-US" sz="2800" spc="-1" strike="noStrike">
              <a:solidFill>
                <a:srgbClr val="0082d1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4000" y="620640"/>
            <a:ext cx="9090000" cy="5419800"/>
            <a:chOff x="54000" y="620640"/>
            <a:chExt cx="9090000" cy="5419800"/>
          </a:xfrm>
        </p:grpSpPr>
        <p:sp>
          <p:nvSpPr>
            <p:cNvPr id="636" name=""/>
            <p:cNvSpPr/>
            <p:nvPr/>
          </p:nvSpPr>
          <p:spPr>
            <a:xfrm>
              <a:off x="909360" y="933480"/>
              <a:ext cx="7216920" cy="4857840"/>
            </a:xfrm>
            <a:prstGeom prst="rect">
              <a:avLst/>
            </a:prstGeom>
            <a:solidFill>
              <a:srgbClr val="0082d1">
                <a:alpha val="25000"/>
              </a:srgbClr>
            </a:solidFill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533760" y="933480"/>
              <a:ext cx="1440" cy="4857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09360" y="3922920"/>
              <a:ext cx="72169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000" y="3622680"/>
              <a:ext cx="1393560" cy="574560"/>
            </a:xfrm>
            <a:prstGeom prst="rect">
              <a:avLst/>
            </a:prstGeom>
            <a:solidFill>
              <a:srgbClr val="0082d1"/>
            </a:solidFill>
            <a:ln w="9360">
              <a:solidFill>
                <a:srgbClr val="6163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Tecnologia (-)</a:t>
              </a:r>
              <a:endParaRPr b="0" lang="en-US" sz="16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750080" y="3618000"/>
              <a:ext cx="1393920" cy="574560"/>
            </a:xfrm>
            <a:prstGeom prst="rect">
              <a:avLst/>
            </a:prstGeom>
            <a:solidFill>
              <a:srgbClr val="0082d1"/>
            </a:solidFill>
            <a:ln w="9360">
              <a:solidFill>
                <a:srgbClr val="6163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Tecnologia (+)</a:t>
              </a:r>
              <a:endParaRPr b="0" lang="en-US" sz="16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836800" y="5465880"/>
              <a:ext cx="1393920" cy="574560"/>
            </a:xfrm>
            <a:prstGeom prst="rect">
              <a:avLst/>
            </a:prstGeom>
            <a:solidFill>
              <a:srgbClr val="0082d1"/>
            </a:solidFill>
            <a:ln w="9360">
              <a:solidFill>
                <a:srgbClr val="6163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Cultura (-)</a:t>
              </a:r>
              <a:endParaRPr b="0" lang="en-US" sz="16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849400" y="620640"/>
              <a:ext cx="1393920" cy="574920"/>
            </a:xfrm>
            <a:prstGeom prst="rect">
              <a:avLst/>
            </a:prstGeom>
            <a:solidFill>
              <a:srgbClr val="0082d1"/>
            </a:solidFill>
            <a:ln w="9360">
              <a:solidFill>
                <a:srgbClr val="6163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Cultura (+)</a:t>
              </a:r>
              <a:endParaRPr b="0" lang="en-US" sz="16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284720" y="1484280"/>
            <a:ext cx="2608200" cy="12952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Forum letteratura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isultati Google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30-05-07 </a:t>
            </a:r>
            <a:r>
              <a:rPr b="1" lang="it-IT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1.680.000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5-07-09 </a:t>
            </a:r>
            <a:r>
              <a:rPr b="1" lang="it-IT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1.470.000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284720" y="3932280"/>
            <a:ext cx="2663640" cy="1224000"/>
          </a:xfrm>
          <a:prstGeom prst="rect">
            <a:avLst/>
          </a:prstGeom>
          <a:solidFill>
            <a:srgbClr val="ff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Forum calcio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isultati Google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30-05-07 </a:t>
            </a:r>
            <a:r>
              <a:rPr b="1" lang="it-IT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1.940.000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5-07-09 </a:t>
            </a:r>
            <a:r>
              <a:rPr b="1" lang="it-IT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4.850.000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124000" y="1844640"/>
            <a:ext cx="7020000" cy="2521080"/>
          </a:xfrm>
          <a:prstGeom prst="rect">
            <a:avLst/>
          </a:prstGeom>
          <a:solidFill>
            <a:srgbClr val="0082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Il quadro di riferimento</a:t>
            </a:r>
            <a:endParaRPr b="0" lang="en-US" sz="36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2124000" y="1844640"/>
            <a:ext cx="7020000" cy="2521080"/>
          </a:xfrm>
          <a:prstGeom prst="rect">
            <a:avLst/>
          </a:prstGeom>
          <a:solidFill>
            <a:srgbClr val="0082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I giovani </a:t>
            </a:r>
            <a:endParaRPr b="0" lang="en-US" sz="36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760320" y="1166760"/>
            <a:ext cx="7621560" cy="452448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564000" y="18864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2d1"/>
                </a:solidFill>
                <a:latin typeface="Arial"/>
              </a:rPr>
              <a:t>I giovani technofan</a:t>
            </a:r>
            <a:endParaRPr b="0" lang="en-US" sz="28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140360" y="2133720"/>
            <a:ext cx="44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2d1"/>
                </a:solidFill>
                <a:latin typeface="Arial"/>
              </a:rPr>
              <a:t>Il 58% dei giovani tra i 14 -24 anni è attualmente technofan                           </a:t>
            </a:r>
            <a:r>
              <a:rPr b="1" lang="it-IT" sz="2000" spc="-1" strike="noStrike">
                <a:solidFill>
                  <a:srgbClr val="0082d1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>
                <a:solidFill>
                  <a:srgbClr val="0082d1"/>
                </a:solidFill>
                <a:latin typeface="Arial"/>
              </a:rPr>
              <a:t>  3,8 milioni di individui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851280" y="1197000"/>
            <a:ext cx="20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7403a"/>
                </a:solidFill>
                <a:latin typeface="Arial"/>
              </a:rPr>
              <a:t>% di individui technofan tra i 14-24 anni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50" name="Text Box 24"/>
          <p:cNvSpPr/>
          <p:nvPr/>
        </p:nvSpPr>
        <p:spPr>
          <a:xfrm>
            <a:off x="4500720" y="6064200"/>
            <a:ext cx="462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Tot. Giovani tra i 14 e i 24 anni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658800" y="1268280"/>
            <a:ext cx="7873920" cy="481032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6443640" y="3068640"/>
            <a:ext cx="45356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708360" y="1989000"/>
            <a:ext cx="20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7403a"/>
                </a:solidFill>
                <a:latin typeface="Arial"/>
              </a:rPr>
              <a:t>% Non mi interessa, ne potrei tranquillamente fare a meno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0"/>
            <a:ext cx="9144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82d1"/>
                </a:solidFill>
                <a:latin typeface="Arial"/>
              </a:rPr>
              <a:t>Di cosa i giovani potrebbero fare tranquillamente a meno</a:t>
            </a: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981000"/>
            <a:ext cx="9144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82d1"/>
                </a:solidFill>
                <a:latin typeface="Arial"/>
              </a:rPr>
              <a:t>Trend 2008/2009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4427640" y="6137280"/>
            <a:ext cx="462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Tot. Popolazione 14-19 anni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57" name="Connettore 2 82"/>
          <p:cNvCxnSpPr/>
          <p:nvPr/>
        </p:nvCxnSpPr>
        <p:spPr>
          <a:xfrm>
            <a:off x="3786120" y="4286160"/>
            <a:ext cx="24480" cy="64224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cxnSp>
        <p:nvCxnSpPr>
          <p:cNvPr id="658" name="Connettore 2 274"/>
          <p:cNvCxnSpPr/>
          <p:nvPr/>
        </p:nvCxnSpPr>
        <p:spPr>
          <a:xfrm>
            <a:off x="3213720" y="4643280"/>
            <a:ext cx="1080" cy="92952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cxnSp>
        <p:nvCxnSpPr>
          <p:cNvPr id="659" name="Connettore 2 269"/>
          <p:cNvCxnSpPr/>
          <p:nvPr/>
        </p:nvCxnSpPr>
        <p:spPr>
          <a:xfrm flipH="1">
            <a:off x="2714040" y="4714560"/>
            <a:ext cx="1080" cy="85788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cxnSp>
        <p:nvCxnSpPr>
          <p:cNvPr id="660" name="Connettore 2 263"/>
          <p:cNvCxnSpPr/>
          <p:nvPr/>
        </p:nvCxnSpPr>
        <p:spPr>
          <a:xfrm>
            <a:off x="1781640" y="4015440"/>
            <a:ext cx="3960" cy="62748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cxnSp>
        <p:nvCxnSpPr>
          <p:cNvPr id="661" name="Connettore 2 42"/>
          <p:cNvCxnSpPr/>
          <p:nvPr/>
        </p:nvCxnSpPr>
        <p:spPr>
          <a:xfrm flipH="1">
            <a:off x="1213560" y="4357440"/>
            <a:ext cx="10440" cy="114372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cxnSp>
        <p:nvCxnSpPr>
          <p:cNvPr id="662" name="Connettore 2 253"/>
          <p:cNvCxnSpPr/>
          <p:nvPr/>
        </p:nvCxnSpPr>
        <p:spPr>
          <a:xfrm>
            <a:off x="710280" y="4214520"/>
            <a:ext cx="6840" cy="49284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cxnSp>
        <p:nvCxnSpPr>
          <p:cNvPr id="663" name="Connettore 2 79"/>
          <p:cNvCxnSpPr>
            <a:endCxn id="664" idx="3"/>
          </p:cNvCxnSpPr>
          <p:nvPr/>
        </p:nvCxnSpPr>
        <p:spPr>
          <a:xfrm flipH="1">
            <a:off x="4268520" y="3134880"/>
            <a:ext cx="10080" cy="599400"/>
          </a:xfrm>
          <a:prstGeom prst="straightConnector1">
            <a:avLst/>
          </a:prstGeom>
          <a:ln w="25560">
            <a:solidFill>
              <a:srgbClr val="7beb7a"/>
            </a:solidFill>
            <a:miter/>
            <a:headEnd len="med" type="oval" w="med"/>
            <a:tailEnd len="med" type="oval" w="med"/>
          </a:ln>
        </p:spPr>
      </p:cxnSp>
      <p:cxnSp>
        <p:nvCxnSpPr>
          <p:cNvPr id="665" name="Connettore 2 310"/>
          <p:cNvCxnSpPr/>
          <p:nvPr/>
        </p:nvCxnSpPr>
        <p:spPr>
          <a:xfrm>
            <a:off x="8071200" y="2428920"/>
            <a:ext cx="1080" cy="1651680"/>
          </a:xfrm>
          <a:prstGeom prst="straightConnector1">
            <a:avLst/>
          </a:prstGeom>
          <a:ln w="25560">
            <a:solidFill>
              <a:srgbClr val="7beb7a"/>
            </a:solidFill>
            <a:miter/>
            <a:headEnd len="med" type="oval" w="med"/>
            <a:tailEnd len="med" type="oval" w="med"/>
          </a:ln>
        </p:spPr>
      </p:cxnSp>
      <p:cxnSp>
        <p:nvCxnSpPr>
          <p:cNvPr id="666" name="Connettore 2 273"/>
          <p:cNvCxnSpPr/>
          <p:nvPr/>
        </p:nvCxnSpPr>
        <p:spPr>
          <a:xfrm flipH="1">
            <a:off x="4406400" y="4571640"/>
            <a:ext cx="23040" cy="88956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cxnSp>
        <p:nvCxnSpPr>
          <p:cNvPr id="667" name="Connettore 2 85"/>
          <p:cNvCxnSpPr/>
          <p:nvPr/>
        </p:nvCxnSpPr>
        <p:spPr>
          <a:xfrm flipH="1">
            <a:off x="5760720" y="4500720"/>
            <a:ext cx="25920" cy="122616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cxnSp>
        <p:nvCxnSpPr>
          <p:cNvPr id="668" name="Connettore 2 317"/>
          <p:cNvCxnSpPr/>
          <p:nvPr/>
        </p:nvCxnSpPr>
        <p:spPr>
          <a:xfrm flipH="1">
            <a:off x="6834240" y="4163760"/>
            <a:ext cx="70200" cy="88164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cxnSp>
        <p:nvCxnSpPr>
          <p:cNvPr id="669" name="Connettore 2 71"/>
          <p:cNvCxnSpPr/>
          <p:nvPr/>
        </p:nvCxnSpPr>
        <p:spPr>
          <a:xfrm flipH="1">
            <a:off x="6774840" y="2428560"/>
            <a:ext cx="11880" cy="857880"/>
          </a:xfrm>
          <a:prstGeom prst="straightConnector1">
            <a:avLst/>
          </a:prstGeom>
          <a:ln w="25560">
            <a:solidFill>
              <a:srgbClr val="7beb7a"/>
            </a:solidFill>
            <a:miter/>
            <a:headEnd len="med" type="oval" w="med"/>
            <a:tailEnd len="med" type="oval" w="med"/>
          </a:ln>
        </p:spPr>
      </p:cxnSp>
      <p:cxnSp>
        <p:nvCxnSpPr>
          <p:cNvPr id="670" name="Connettore 2 344"/>
          <p:cNvCxnSpPr>
            <a:endCxn id="671" idx="3"/>
          </p:cNvCxnSpPr>
          <p:nvPr/>
        </p:nvCxnSpPr>
        <p:spPr>
          <a:xfrm flipH="1">
            <a:off x="8922960" y="3405240"/>
            <a:ext cx="24480" cy="442080"/>
          </a:xfrm>
          <a:prstGeom prst="straightConnector1">
            <a:avLst/>
          </a:prstGeom>
          <a:ln w="25560">
            <a:solidFill>
              <a:srgbClr val="7beb7a"/>
            </a:solidFill>
            <a:miter/>
            <a:headEnd len="med" type="oval" w="med"/>
            <a:tailEnd len="med" type="oval" w="med"/>
          </a:ln>
        </p:spPr>
      </p:cxnSp>
      <p:cxnSp>
        <p:nvCxnSpPr>
          <p:cNvPr id="672" name="Connettore 2 308"/>
          <p:cNvCxnSpPr/>
          <p:nvPr/>
        </p:nvCxnSpPr>
        <p:spPr>
          <a:xfrm>
            <a:off x="6429240" y="642960"/>
            <a:ext cx="29520" cy="2674080"/>
          </a:xfrm>
          <a:prstGeom prst="straightConnector1">
            <a:avLst/>
          </a:prstGeom>
          <a:ln w="25560">
            <a:solidFill>
              <a:srgbClr val="7beb7a"/>
            </a:solidFill>
            <a:miter/>
            <a:headEnd len="med" type="oval" w="med"/>
            <a:tailEnd len="med" type="oval" w="med"/>
          </a:ln>
        </p:spPr>
      </p:cxnSp>
      <p:cxnSp>
        <p:nvCxnSpPr>
          <p:cNvPr id="673" name="Connettore 2 119"/>
          <p:cNvCxnSpPr/>
          <p:nvPr/>
        </p:nvCxnSpPr>
        <p:spPr>
          <a:xfrm flipV="1">
            <a:off x="3429000" y="1396440"/>
            <a:ext cx="24480" cy="1818360"/>
          </a:xfrm>
          <a:prstGeom prst="straightConnector1">
            <a:avLst/>
          </a:prstGeom>
          <a:ln w="25560">
            <a:solidFill>
              <a:srgbClr val="7beb7a"/>
            </a:solidFill>
            <a:miter/>
            <a:headEnd len="med" type="oval" w="med"/>
            <a:tailEnd len="med" type="oval" w="med"/>
          </a:ln>
        </p:spPr>
      </p:cxnSp>
      <p:cxnSp>
        <p:nvCxnSpPr>
          <p:cNvPr id="674" name="Connettore 2 122"/>
          <p:cNvCxnSpPr>
            <a:endCxn id="675" idx="3"/>
          </p:cNvCxnSpPr>
          <p:nvPr/>
        </p:nvCxnSpPr>
        <p:spPr>
          <a:xfrm>
            <a:off x="3713760" y="857160"/>
            <a:ext cx="3960" cy="2850480"/>
          </a:xfrm>
          <a:prstGeom prst="straightConnector1">
            <a:avLst/>
          </a:prstGeom>
          <a:ln w="25560">
            <a:solidFill>
              <a:srgbClr val="7beb7a"/>
            </a:solidFill>
            <a:miter/>
            <a:headEnd len="med" type="oval" w="med"/>
            <a:tailEnd len="med" type="oval" w="med"/>
          </a:ln>
        </p:spPr>
      </p:cxnSp>
      <p:cxnSp>
        <p:nvCxnSpPr>
          <p:cNvPr id="676" name="Connettore 2 180"/>
          <p:cNvCxnSpPr>
            <a:stCxn id="677" idx="2"/>
          </p:cNvCxnSpPr>
          <p:nvPr/>
        </p:nvCxnSpPr>
        <p:spPr>
          <a:xfrm flipH="1">
            <a:off x="5000400" y="2362320"/>
            <a:ext cx="16560" cy="560880"/>
          </a:xfrm>
          <a:prstGeom prst="straightConnector1">
            <a:avLst/>
          </a:prstGeom>
          <a:ln w="25560">
            <a:solidFill>
              <a:srgbClr val="7beb7a"/>
            </a:solidFill>
            <a:miter/>
            <a:headEnd len="med" type="oval" w="med"/>
            <a:tailEnd len="med" type="oval" w="med"/>
          </a:ln>
        </p:spPr>
      </p:cxnSp>
      <p:cxnSp>
        <p:nvCxnSpPr>
          <p:cNvPr id="678" name="Connettore 2 107"/>
          <p:cNvCxnSpPr/>
          <p:nvPr/>
        </p:nvCxnSpPr>
        <p:spPr>
          <a:xfrm flipH="1">
            <a:off x="1968120" y="2428920"/>
            <a:ext cx="32400" cy="1467360"/>
          </a:xfrm>
          <a:prstGeom prst="straightConnector1">
            <a:avLst/>
          </a:prstGeom>
          <a:ln w="25560">
            <a:solidFill>
              <a:srgbClr val="7beb7a"/>
            </a:solidFill>
            <a:miter/>
            <a:headEnd len="med" type="oval" w="med"/>
            <a:tailEnd len="med" type="oval" w="med"/>
          </a:ln>
        </p:spPr>
      </p:cxnSp>
      <p:cxnSp>
        <p:nvCxnSpPr>
          <p:cNvPr id="679" name="Connettore 2 108"/>
          <p:cNvCxnSpPr/>
          <p:nvPr/>
        </p:nvCxnSpPr>
        <p:spPr>
          <a:xfrm flipH="1">
            <a:off x="1697760" y="499680"/>
            <a:ext cx="16920" cy="3096360"/>
          </a:xfrm>
          <a:prstGeom prst="straightConnector1">
            <a:avLst/>
          </a:prstGeom>
          <a:ln w="25560">
            <a:solidFill>
              <a:srgbClr val="7beb7a"/>
            </a:solidFill>
            <a:miter/>
            <a:headEnd len="med" type="oval" w="med"/>
            <a:tailEnd len="med" type="oval" w="med"/>
          </a:ln>
        </p:spPr>
      </p:cxnSp>
      <p:cxnSp>
        <p:nvCxnSpPr>
          <p:cNvPr id="680" name="Connettore 2 111"/>
          <p:cNvCxnSpPr/>
          <p:nvPr/>
        </p:nvCxnSpPr>
        <p:spPr>
          <a:xfrm>
            <a:off x="927720" y="1571760"/>
            <a:ext cx="73800" cy="2010240"/>
          </a:xfrm>
          <a:prstGeom prst="straightConnector1">
            <a:avLst/>
          </a:prstGeom>
          <a:ln w="25560">
            <a:solidFill>
              <a:srgbClr val="7beb7a"/>
            </a:solidFill>
            <a:miter/>
            <a:headEnd len="med" type="oval" w="med"/>
            <a:tailEnd len="med" type="oval" w="med"/>
          </a:ln>
        </p:spPr>
      </p:cxnSp>
      <p:sp>
        <p:nvSpPr>
          <p:cNvPr id="681" name="Rettangolo 6"/>
          <p:cNvSpPr/>
          <p:nvPr/>
        </p:nvSpPr>
        <p:spPr>
          <a:xfrm>
            <a:off x="0" y="4040280"/>
            <a:ext cx="9144000" cy="4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60" bIns="360" anchor="t">
            <a:noAutofit/>
          </a:bodyPr>
          <a:p>
            <a:pPr>
              <a:buClr>
                <a:srgbClr val="0082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82" name="CasellaDiTesto 7"/>
          <p:cNvSpPr/>
          <p:nvPr/>
        </p:nvSpPr>
        <p:spPr>
          <a:xfrm>
            <a:off x="0" y="28440"/>
            <a:ext cx="6516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90f33"/>
                </a:solidFill>
                <a:latin typeface="Arial Rounded MT Bold"/>
              </a:rPr>
              <a:t>Il Technoday dei giovani: mattino </a:t>
            </a:r>
            <a:r>
              <a:rPr b="0" lang="it-IT" sz="2000" spc="-1" strike="noStrike">
                <a:solidFill>
                  <a:srgbClr val="e90f33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e90f33"/>
                </a:solidFill>
                <a:latin typeface="Arial Rounded MT Bold"/>
              </a:rPr>
              <a:t> pomeriggio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83" name="CasellaDiTesto 10"/>
          <p:cNvSpPr/>
          <p:nvPr/>
        </p:nvSpPr>
        <p:spPr>
          <a:xfrm rot="18163800">
            <a:off x="1019880" y="3904200"/>
            <a:ext cx="88164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Computer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84" name="CasellaDiTesto 12"/>
          <p:cNvSpPr/>
          <p:nvPr/>
        </p:nvSpPr>
        <p:spPr>
          <a:xfrm rot="18163800">
            <a:off x="7710480" y="4020120"/>
            <a:ext cx="80388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Cellulare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85" name="CasellaDiTesto 13"/>
          <p:cNvSpPr/>
          <p:nvPr/>
        </p:nvSpPr>
        <p:spPr>
          <a:xfrm rot="18163800">
            <a:off x="5289120" y="3779640"/>
            <a:ext cx="157356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Computer (in uficio)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86" name="CasellaDiTesto 14"/>
          <p:cNvSpPr/>
          <p:nvPr/>
        </p:nvSpPr>
        <p:spPr>
          <a:xfrm>
            <a:off x="227160" y="375444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Arial Rounded MT Bold"/>
              </a:rPr>
              <a:t>Casa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87" name="CasellaDiTesto 15"/>
          <p:cNvSpPr/>
          <p:nvPr/>
        </p:nvSpPr>
        <p:spPr>
          <a:xfrm>
            <a:off x="1930320" y="371484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Arial Rounded MT Bold"/>
              </a:rPr>
              <a:t>Spostamento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75" name="CasellaDiTesto 17"/>
          <p:cNvSpPr/>
          <p:nvPr/>
        </p:nvSpPr>
        <p:spPr>
          <a:xfrm rot="18163800">
            <a:off x="2797560" y="4071240"/>
            <a:ext cx="120348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Radio (in auto)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88" name="CasellaDiTesto 18"/>
          <p:cNvSpPr/>
          <p:nvPr/>
        </p:nvSpPr>
        <p:spPr>
          <a:xfrm rot="18163800">
            <a:off x="5870880" y="3909240"/>
            <a:ext cx="244548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Quaderni Appunti (in università)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89" name="CasellaDiTesto 19"/>
          <p:cNvSpPr/>
          <p:nvPr/>
        </p:nvSpPr>
        <p:spPr>
          <a:xfrm rot="18163800">
            <a:off x="3425760" y="3521160"/>
            <a:ext cx="2754360" cy="42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Quotidiano gratuito (sui mezzi pubb.)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90" name="CasellaDiTesto 21"/>
          <p:cNvSpPr/>
          <p:nvPr/>
        </p:nvSpPr>
        <p:spPr>
          <a:xfrm>
            <a:off x="108000" y="457200"/>
            <a:ext cx="2286000" cy="39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CONTROLLO FACEBOOK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E POSTA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91" name="CasellaDiTesto 22"/>
          <p:cNvSpPr/>
          <p:nvPr/>
        </p:nvSpPr>
        <p:spPr>
          <a:xfrm rot="18163800">
            <a:off x="1644480" y="3955320"/>
            <a:ext cx="35280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TV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92" name="CasellaDiTesto 23"/>
          <p:cNvSpPr/>
          <p:nvPr/>
        </p:nvSpPr>
        <p:spPr>
          <a:xfrm>
            <a:off x="1862280" y="1789200"/>
            <a:ext cx="1442880" cy="70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ACCESA COME SOTTOFONDO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PER ASCOLTARE LE NEWS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93" name="CasellaDiTesto 34"/>
          <p:cNvSpPr/>
          <p:nvPr/>
        </p:nvSpPr>
        <p:spPr>
          <a:xfrm>
            <a:off x="0" y="4643280"/>
            <a:ext cx="1062000" cy="398520"/>
          </a:xfrm>
          <a:prstGeom prst="rect">
            <a:avLst/>
          </a:prstGeom>
          <a:solidFill>
            <a:srgbClr val="2f58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SICUREZZA e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POSITIVITA’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94" name="CasellaDiTesto 35"/>
          <p:cNvSpPr/>
          <p:nvPr/>
        </p:nvSpPr>
        <p:spPr>
          <a:xfrm>
            <a:off x="34920" y="5460840"/>
            <a:ext cx="1846440" cy="550800"/>
          </a:xfrm>
          <a:prstGeom prst="rect">
            <a:avLst/>
          </a:prstGeom>
          <a:solidFill>
            <a:srgbClr val="2f58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CURIOSITA’ – PRIMA ORGANIZZAZIONE DEL PIACERE per la giornata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95" name="CasellaDiTesto 36"/>
          <p:cNvSpPr/>
          <p:nvPr/>
        </p:nvSpPr>
        <p:spPr>
          <a:xfrm>
            <a:off x="1420920" y="4618080"/>
            <a:ext cx="1095120" cy="855360"/>
          </a:xfrm>
          <a:prstGeom prst="rect">
            <a:avLst/>
          </a:prstGeom>
          <a:solidFill>
            <a:srgbClr val="2f58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IL DOVERE COME 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COMPAGNIA in SOTTOFONDO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96" name="CasellaDiTesto 39"/>
          <p:cNvSpPr/>
          <p:nvPr/>
        </p:nvSpPr>
        <p:spPr>
          <a:xfrm>
            <a:off x="357120" y="957240"/>
            <a:ext cx="2286000" cy="39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VERIFICA E AVVIO DOWNLOAD FILM  (PER LA SERATA)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97" name="CasellaDiTesto 97"/>
          <p:cNvSpPr/>
          <p:nvPr/>
        </p:nvSpPr>
        <p:spPr>
          <a:xfrm>
            <a:off x="200160" y="2017800"/>
            <a:ext cx="1396800" cy="55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CONTROLLO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E RISPOSTA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SMS ARRIVATI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98" name="CasellaDiTesto 20"/>
          <p:cNvSpPr/>
          <p:nvPr/>
        </p:nvSpPr>
        <p:spPr>
          <a:xfrm>
            <a:off x="200160" y="1539720"/>
            <a:ext cx="139680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LA SVEGLIA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99" name="CasellaDiTesto 8"/>
          <p:cNvSpPr/>
          <p:nvPr/>
        </p:nvSpPr>
        <p:spPr>
          <a:xfrm rot="18163800">
            <a:off x="525600" y="3786840"/>
            <a:ext cx="80388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Cellulare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00" name="CasellaDiTesto 118"/>
          <p:cNvSpPr/>
          <p:nvPr/>
        </p:nvSpPr>
        <p:spPr>
          <a:xfrm>
            <a:off x="1928880" y="5460840"/>
            <a:ext cx="1834920" cy="855360"/>
          </a:xfrm>
          <a:prstGeom prst="rect">
            <a:avLst/>
          </a:prstGeom>
          <a:solidFill>
            <a:srgbClr val="2f58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ASCOLTO DEL SE’ ed IDENTITA’ : IO SONO LA MIA MUSICA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RICARICA ENERGIA </a:t>
            </a:r>
            <a:r>
              <a:rPr b="0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RITMO 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01" name="CasellaDiTesto 167"/>
          <p:cNvSpPr/>
          <p:nvPr/>
        </p:nvSpPr>
        <p:spPr>
          <a:xfrm>
            <a:off x="3584520" y="487800"/>
            <a:ext cx="2500200" cy="73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ASCOLTO MUSICA PER RILASSARSI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ASCOLTO NEWS PER AGGIORNARSI ED ENTRARE IN CONTATTO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CON IL MONDO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02" name="CasellaDiTesto 16"/>
          <p:cNvSpPr/>
          <p:nvPr/>
        </p:nvSpPr>
        <p:spPr>
          <a:xfrm>
            <a:off x="5149800" y="3809880"/>
            <a:ext cx="76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Arial Rounded MT Bold"/>
              </a:rPr>
              <a:t>Studio-Lavoro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77" name="CasellaDiTesto 179"/>
          <p:cNvSpPr/>
          <p:nvPr/>
        </p:nvSpPr>
        <p:spPr>
          <a:xfrm>
            <a:off x="3929040" y="1500120"/>
            <a:ext cx="2174760" cy="85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IL MINIMO DELL’INFORMAZIONE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Leggere i titoli in prima pagina, l’oroscopo, il cinema, gli eventi in città e lo sport (+ i maschi)  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03" name="CasellaDiTesto 210"/>
          <p:cNvSpPr/>
          <p:nvPr/>
        </p:nvSpPr>
        <p:spPr>
          <a:xfrm rot="18163800">
            <a:off x="3894480" y="3759480"/>
            <a:ext cx="218124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Corriere/Repubblica (al bar)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04" name="CasellaDiTesto 219"/>
          <p:cNvSpPr/>
          <p:nvPr/>
        </p:nvSpPr>
        <p:spPr>
          <a:xfrm>
            <a:off x="3890880" y="5460840"/>
            <a:ext cx="1800360" cy="703080"/>
          </a:xfrm>
          <a:prstGeom prst="rect">
            <a:avLst/>
          </a:prstGeom>
          <a:solidFill>
            <a:srgbClr val="2f58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LO SVAGO PRIMA DEL DOVERE – LA VOGLIA DI LEGGEREZZA NEL FORMAT “SERIO”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cxnSp>
        <p:nvCxnSpPr>
          <p:cNvPr id="705" name="Connettore 2 309"/>
          <p:cNvCxnSpPr/>
          <p:nvPr/>
        </p:nvCxnSpPr>
        <p:spPr>
          <a:xfrm>
            <a:off x="7358040" y="2991960"/>
            <a:ext cx="8640" cy="366120"/>
          </a:xfrm>
          <a:prstGeom prst="straightConnector1">
            <a:avLst/>
          </a:prstGeom>
          <a:ln w="25560">
            <a:solidFill>
              <a:srgbClr val="7beb7a"/>
            </a:solidFill>
            <a:miter/>
            <a:headEnd len="med" type="oval" w="med"/>
            <a:tailEnd len="med" type="oval" w="med"/>
          </a:ln>
        </p:spPr>
      </p:cxnSp>
      <p:sp>
        <p:nvSpPr>
          <p:cNvPr id="706" name="CasellaDiTesto 315"/>
          <p:cNvSpPr/>
          <p:nvPr/>
        </p:nvSpPr>
        <p:spPr>
          <a:xfrm>
            <a:off x="5818320" y="5045040"/>
            <a:ext cx="1166760" cy="398520"/>
          </a:xfrm>
          <a:prstGeom prst="rect">
            <a:avLst/>
          </a:prstGeom>
          <a:solidFill>
            <a:srgbClr val="2f58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IMPEGNO-SERIETA’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cxnSp>
        <p:nvCxnSpPr>
          <p:cNvPr id="707" name="Connettore 2 316"/>
          <p:cNvCxnSpPr/>
          <p:nvPr/>
        </p:nvCxnSpPr>
        <p:spPr>
          <a:xfrm flipH="1">
            <a:off x="6130440" y="4214520"/>
            <a:ext cx="13680" cy="84204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cxnSp>
        <p:nvCxnSpPr>
          <p:cNvPr id="708" name="Connettore 2 325"/>
          <p:cNvCxnSpPr/>
          <p:nvPr/>
        </p:nvCxnSpPr>
        <p:spPr>
          <a:xfrm>
            <a:off x="8144280" y="4299120"/>
            <a:ext cx="2520" cy="74016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sp>
        <p:nvSpPr>
          <p:cNvPr id="709" name="CasellaDiTesto 326"/>
          <p:cNvSpPr/>
          <p:nvPr/>
        </p:nvSpPr>
        <p:spPr>
          <a:xfrm>
            <a:off x="6215040" y="88920"/>
            <a:ext cx="2874960" cy="55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IN PARALLELO E DI NASCOSTO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 </a:t>
            </a:r>
            <a:r>
              <a:rPr b="0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Facebook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 </a:t>
            </a:r>
            <a:r>
              <a:rPr b="0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Navigazione su siti di svago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71" name="CasellaDiTesto 339"/>
          <p:cNvSpPr/>
          <p:nvPr/>
        </p:nvSpPr>
        <p:spPr>
          <a:xfrm rot="18163800">
            <a:off x="8424720" y="3988080"/>
            <a:ext cx="64548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iTouch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10" name="CasellaDiTesto 343"/>
          <p:cNvSpPr/>
          <p:nvPr/>
        </p:nvSpPr>
        <p:spPr>
          <a:xfrm>
            <a:off x="8104320" y="3149640"/>
            <a:ext cx="1039680" cy="39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GIOCHI E PASSATEMPI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11" name="CasellaDiTesto 347"/>
          <p:cNvSpPr/>
          <p:nvPr/>
        </p:nvSpPr>
        <p:spPr>
          <a:xfrm>
            <a:off x="7711920" y="5495760"/>
            <a:ext cx="1432080" cy="703080"/>
          </a:xfrm>
          <a:prstGeom prst="rect">
            <a:avLst/>
          </a:prstGeom>
          <a:solidFill>
            <a:srgbClr val="2f58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L’ANTINOIA ALLA LEZIONE  se la frequenza è obbligatoria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cxnSp>
        <p:nvCxnSpPr>
          <p:cNvPr id="712" name="Connettore 2 348"/>
          <p:cNvCxnSpPr/>
          <p:nvPr/>
        </p:nvCxnSpPr>
        <p:spPr>
          <a:xfrm flipH="1">
            <a:off x="8760600" y="4260600"/>
            <a:ext cx="35640" cy="127044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sp>
        <p:nvSpPr>
          <p:cNvPr id="713" name="CasellaDiTesto 356"/>
          <p:cNvSpPr/>
          <p:nvPr/>
        </p:nvSpPr>
        <p:spPr>
          <a:xfrm>
            <a:off x="8001000" y="1808280"/>
            <a:ext cx="1063800" cy="100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MSN VELOCI   </a:t>
            </a:r>
            <a:r>
              <a:rPr b="0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per non perdere tempo e organizzarsi la serata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14" name="CasellaDiTesto 357"/>
          <p:cNvSpPr/>
          <p:nvPr/>
        </p:nvSpPr>
        <p:spPr>
          <a:xfrm>
            <a:off x="7101000" y="4826160"/>
            <a:ext cx="1511280" cy="703080"/>
          </a:xfrm>
          <a:prstGeom prst="rect">
            <a:avLst/>
          </a:prstGeom>
          <a:solidFill>
            <a:srgbClr val="2f58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L’ATTIMO LIBERATORIO  all’interno del dovere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15" name="CasellaDiTesto 373"/>
          <p:cNvSpPr/>
          <p:nvPr/>
        </p:nvSpPr>
        <p:spPr>
          <a:xfrm>
            <a:off x="214200" y="2820960"/>
            <a:ext cx="1382760" cy="39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CONTROLLO OROSCOPO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16" name="CasellaDiTesto 395"/>
          <p:cNvSpPr/>
          <p:nvPr/>
        </p:nvSpPr>
        <p:spPr>
          <a:xfrm rot="18163800">
            <a:off x="5694480" y="3819240"/>
            <a:ext cx="148968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Scanner (in ufficio)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64" name="CasellaDiTesto 78"/>
          <p:cNvSpPr/>
          <p:nvPr/>
        </p:nvSpPr>
        <p:spPr>
          <a:xfrm rot="18163800">
            <a:off x="3649680" y="3939120"/>
            <a:ext cx="80388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Cellulare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17" name="CasellaDiTesto 80"/>
          <p:cNvSpPr/>
          <p:nvPr/>
        </p:nvSpPr>
        <p:spPr>
          <a:xfrm>
            <a:off x="3786120" y="2714760"/>
            <a:ext cx="1085760" cy="55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BUONGIORNO TRA FIDANZATI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18" name="CasellaDiTesto 83"/>
          <p:cNvSpPr/>
          <p:nvPr/>
        </p:nvSpPr>
        <p:spPr>
          <a:xfrm>
            <a:off x="3336840" y="4861080"/>
            <a:ext cx="1015920" cy="550800"/>
          </a:xfrm>
          <a:prstGeom prst="rect">
            <a:avLst/>
          </a:prstGeom>
          <a:solidFill>
            <a:srgbClr val="2f58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LA PIACEVOLE INTIMITA’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19" name="CasellaDiTesto 84"/>
          <p:cNvSpPr/>
          <p:nvPr/>
        </p:nvSpPr>
        <p:spPr>
          <a:xfrm>
            <a:off x="5738760" y="5472000"/>
            <a:ext cx="1938240" cy="703080"/>
          </a:xfrm>
          <a:prstGeom prst="rect">
            <a:avLst/>
          </a:prstGeom>
          <a:solidFill>
            <a:srgbClr val="2f58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IL PIACERE“RUBATO”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(Facebook e Posta privata)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AGGIORNAMENTO  CONTINUO      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20" name="CasellaDiTesto 195"/>
          <p:cNvSpPr/>
          <p:nvPr/>
        </p:nvSpPr>
        <p:spPr>
          <a:xfrm>
            <a:off x="6286680" y="1500120"/>
            <a:ext cx="1428480" cy="1159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IL DOVERE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 </a:t>
            </a:r>
            <a:r>
              <a:rPr b="0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Controllo posta 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 </a:t>
            </a:r>
            <a:r>
              <a:rPr b="0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Scarico file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 </a:t>
            </a:r>
            <a:r>
              <a:rPr b="0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Outlook ed Excel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 </a:t>
            </a:r>
            <a:r>
              <a:rPr b="0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I siti di lavoro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Scansioni e fotocopie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21" name="CasellaDiTesto 314"/>
          <p:cNvSpPr/>
          <p:nvPr/>
        </p:nvSpPr>
        <p:spPr>
          <a:xfrm>
            <a:off x="7000920" y="2643120"/>
            <a:ext cx="849240" cy="39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LA LEZIONE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22" name="CasellaDiTesto 106"/>
          <p:cNvSpPr/>
          <p:nvPr/>
        </p:nvSpPr>
        <p:spPr>
          <a:xfrm>
            <a:off x="6215040" y="853920"/>
            <a:ext cx="1881360" cy="55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LEGGO NEWS ONLINE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(Corriere - Repubblica - Gazzetta)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23" name="CasellaDiTesto 167"/>
          <p:cNvSpPr/>
          <p:nvPr/>
        </p:nvSpPr>
        <p:spPr>
          <a:xfrm>
            <a:off x="2786040" y="1072440"/>
            <a:ext cx="1428840" cy="39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25355"/>
                </a:solidFill>
                <a:latin typeface="Abadi MT Condensed Light"/>
                <a:ea typeface="Abadi MT Condensed Light"/>
              </a:rPr>
              <a:t>ASCOLTO MUSICA PER RILASSARSI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24" name="CasellaDiTesto 11"/>
          <p:cNvSpPr/>
          <p:nvPr/>
        </p:nvSpPr>
        <p:spPr>
          <a:xfrm rot="18163800">
            <a:off x="2077200" y="3713760"/>
            <a:ext cx="2317680" cy="42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iPod /Itouch ( in moto e a piedi)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25" name="Connettore 2 47"/>
          <p:cNvCxnSpPr/>
          <p:nvPr/>
        </p:nvCxnSpPr>
        <p:spPr>
          <a:xfrm flipH="1">
            <a:off x="3142440" y="642600"/>
            <a:ext cx="72360" cy="3358440"/>
          </a:xfrm>
          <a:prstGeom prst="straightConnector1">
            <a:avLst/>
          </a:prstGeom>
          <a:ln w="25560">
            <a:solidFill>
              <a:srgbClr val="7beb7a"/>
            </a:solidFill>
            <a:miter/>
            <a:headEnd len="med" type="oval" w="med"/>
            <a:tailEnd len="med" type="oval" w="med"/>
          </a:ln>
        </p:spPr>
      </p:cxnSp>
      <p:cxnSp>
        <p:nvCxnSpPr>
          <p:cNvPr id="726" name="Connettore 2 44"/>
          <p:cNvCxnSpPr/>
          <p:nvPr/>
        </p:nvCxnSpPr>
        <p:spPr>
          <a:xfrm>
            <a:off x="1269000" y="4721400"/>
            <a:ext cx="3960" cy="74016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cxnSp>
        <p:nvCxnSpPr>
          <p:cNvPr id="727" name="Connettore 2 63"/>
          <p:cNvCxnSpPr/>
          <p:nvPr/>
        </p:nvCxnSpPr>
        <p:spPr>
          <a:xfrm>
            <a:off x="8588880" y="4192200"/>
            <a:ext cx="29160" cy="163260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cxnSp>
        <p:nvCxnSpPr>
          <p:cNvPr id="728" name="Connettore 2 43"/>
          <p:cNvCxnSpPr/>
          <p:nvPr/>
        </p:nvCxnSpPr>
        <p:spPr>
          <a:xfrm flipH="1">
            <a:off x="3285360" y="4103280"/>
            <a:ext cx="11880" cy="59112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cxnSp>
        <p:nvCxnSpPr>
          <p:cNvPr id="729" name="Connettore 2 52"/>
          <p:cNvCxnSpPr/>
          <p:nvPr/>
        </p:nvCxnSpPr>
        <p:spPr>
          <a:xfrm>
            <a:off x="2714760" y="4071960"/>
            <a:ext cx="8640" cy="41328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cxnSp>
        <p:nvCxnSpPr>
          <p:cNvPr id="730" name="Connettore 2 91"/>
          <p:cNvCxnSpPr/>
          <p:nvPr/>
        </p:nvCxnSpPr>
        <p:spPr>
          <a:xfrm flipH="1">
            <a:off x="4070160" y="4073400"/>
            <a:ext cx="2160" cy="57240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cxnSp>
        <p:nvCxnSpPr>
          <p:cNvPr id="731" name="Connettore 2 173"/>
          <p:cNvCxnSpPr/>
          <p:nvPr/>
        </p:nvCxnSpPr>
        <p:spPr>
          <a:xfrm>
            <a:off x="5070960" y="4000680"/>
            <a:ext cx="143640" cy="42912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cxnSp>
        <p:nvCxnSpPr>
          <p:cNvPr id="732" name="Connettore 2 104"/>
          <p:cNvCxnSpPr/>
          <p:nvPr/>
        </p:nvCxnSpPr>
        <p:spPr>
          <a:xfrm>
            <a:off x="6891840" y="4226040"/>
            <a:ext cx="1080" cy="100224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cxnSp>
        <p:nvCxnSpPr>
          <p:cNvPr id="733" name="Connettore 2 102"/>
          <p:cNvCxnSpPr/>
          <p:nvPr/>
        </p:nvCxnSpPr>
        <p:spPr>
          <a:xfrm flipH="1">
            <a:off x="7143120" y="634680"/>
            <a:ext cx="13320" cy="2810520"/>
          </a:xfrm>
          <a:prstGeom prst="straightConnector1">
            <a:avLst/>
          </a:prstGeom>
          <a:ln w="25560">
            <a:solidFill>
              <a:srgbClr val="7beb7a"/>
            </a:solidFill>
            <a:miter/>
            <a:headEnd len="med" type="oval" w="med"/>
            <a:tailEnd len="med" type="oval" w="med"/>
          </a:ln>
        </p:spPr>
      </p:cxnSp>
      <p:cxnSp>
        <p:nvCxnSpPr>
          <p:cNvPr id="734" name="Connettore 2 112"/>
          <p:cNvCxnSpPr/>
          <p:nvPr/>
        </p:nvCxnSpPr>
        <p:spPr>
          <a:xfrm flipH="1">
            <a:off x="8499240" y="3214440"/>
            <a:ext cx="2160" cy="1059480"/>
          </a:xfrm>
          <a:prstGeom prst="straightConnector1">
            <a:avLst/>
          </a:prstGeom>
          <a:ln w="25560">
            <a:solidFill>
              <a:srgbClr val="7beb7a"/>
            </a:solidFill>
            <a:miter/>
            <a:headEnd len="med" type="oval" w="med"/>
            <a:tailEnd len="med" type="oval" w="med"/>
          </a:ln>
        </p:spPr>
      </p:cxnSp>
      <p:cxnSp>
        <p:nvCxnSpPr>
          <p:cNvPr id="735" name="Connettore 2 107"/>
          <p:cNvCxnSpPr/>
          <p:nvPr/>
        </p:nvCxnSpPr>
        <p:spPr>
          <a:xfrm flipH="1">
            <a:off x="7609680" y="1428840"/>
            <a:ext cx="34200" cy="2783520"/>
          </a:xfrm>
          <a:prstGeom prst="straightConnector1">
            <a:avLst/>
          </a:prstGeom>
          <a:ln w="25560">
            <a:solidFill>
              <a:srgbClr val="7beb7a"/>
            </a:solidFill>
            <a:miter/>
            <a:headEnd len="med" type="oval" w="med"/>
            <a:tailEnd len="med" type="oval" w="med"/>
          </a:ln>
        </p:spPr>
      </p:cxnSp>
      <p:cxnSp>
        <p:nvCxnSpPr>
          <p:cNvPr id="736" name="Connettore 2 68"/>
          <p:cNvCxnSpPr/>
          <p:nvPr/>
        </p:nvCxnSpPr>
        <p:spPr>
          <a:xfrm>
            <a:off x="3785040" y="5500800"/>
            <a:ext cx="10440" cy="55152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cxnSp>
        <p:nvCxnSpPr>
          <p:cNvPr id="737" name="Connettore 2 172"/>
          <p:cNvCxnSpPr/>
          <p:nvPr/>
        </p:nvCxnSpPr>
        <p:spPr>
          <a:xfrm flipV="1">
            <a:off x="4785120" y="2856960"/>
            <a:ext cx="2520" cy="1183320"/>
          </a:xfrm>
          <a:prstGeom prst="straightConnector1">
            <a:avLst/>
          </a:prstGeom>
          <a:ln w="25560">
            <a:solidFill>
              <a:srgbClr val="7beb7a"/>
            </a:solidFill>
            <a:miter/>
            <a:headEnd len="med" type="oval" w="med"/>
            <a:tailEnd len="med" type="oval" w="med"/>
          </a:ln>
        </p:spPr>
      </p:cxnSp>
      <p:cxnSp>
        <p:nvCxnSpPr>
          <p:cNvPr id="738" name="Connettore 2 48"/>
          <p:cNvCxnSpPr/>
          <p:nvPr/>
        </p:nvCxnSpPr>
        <p:spPr>
          <a:xfrm>
            <a:off x="3999600" y="1214280"/>
            <a:ext cx="62280" cy="2596320"/>
          </a:xfrm>
          <a:prstGeom prst="straightConnector1">
            <a:avLst/>
          </a:prstGeom>
          <a:ln w="25560">
            <a:solidFill>
              <a:srgbClr val="7beb7a"/>
            </a:solidFill>
            <a:miter/>
            <a:headEnd len="med" type="oval" w="med"/>
            <a:tailEnd len="med" type="oval" w="med"/>
          </a:ln>
        </p:spPr>
      </p:cxnSp>
      <p:cxnSp>
        <p:nvCxnSpPr>
          <p:cNvPr id="739" name="Connettore 2 45"/>
          <p:cNvCxnSpPr/>
          <p:nvPr/>
        </p:nvCxnSpPr>
        <p:spPr>
          <a:xfrm flipH="1">
            <a:off x="2811240" y="1571400"/>
            <a:ext cx="46800" cy="2159640"/>
          </a:xfrm>
          <a:prstGeom prst="straightConnector1">
            <a:avLst/>
          </a:prstGeom>
          <a:ln w="25560">
            <a:solidFill>
              <a:srgbClr val="7beb7a"/>
            </a:solidFill>
            <a:miter/>
            <a:headEnd len="med" type="oval" w="med"/>
            <a:tailEnd len="med" type="oval" w="med"/>
          </a:ln>
        </p:spPr>
      </p:cxnSp>
      <p:cxnSp>
        <p:nvCxnSpPr>
          <p:cNvPr id="740" name="Connettore 2 32"/>
          <p:cNvCxnSpPr/>
          <p:nvPr/>
        </p:nvCxnSpPr>
        <p:spPr>
          <a:xfrm flipH="1" flipV="1">
            <a:off x="1434600" y="2314080"/>
            <a:ext cx="13680" cy="1686960"/>
          </a:xfrm>
          <a:prstGeom prst="straightConnector1">
            <a:avLst/>
          </a:prstGeom>
          <a:ln w="25560">
            <a:solidFill>
              <a:srgbClr val="7beb7a"/>
            </a:solidFill>
            <a:miter/>
            <a:headEnd len="med" type="oval" w="med"/>
            <a:tailEnd len="med" type="oval" w="med"/>
          </a:ln>
        </p:spPr>
      </p:cxnSp>
      <p:cxnSp>
        <p:nvCxnSpPr>
          <p:cNvPr id="741" name="Connettore 2 33"/>
          <p:cNvCxnSpPr/>
          <p:nvPr/>
        </p:nvCxnSpPr>
        <p:spPr>
          <a:xfrm flipH="1">
            <a:off x="1051920" y="2274840"/>
            <a:ext cx="19800" cy="1869120"/>
          </a:xfrm>
          <a:prstGeom prst="straightConnector1">
            <a:avLst/>
          </a:prstGeom>
          <a:ln w="25560">
            <a:solidFill>
              <a:srgbClr val="7beb7a"/>
            </a:solidFill>
            <a:miter/>
            <a:headEnd len="med" type="oval" w="med"/>
            <a:tailEnd len="med" type="oval" w="med"/>
          </a:ln>
        </p:spPr>
      </p:cxnSp>
      <p:sp>
        <p:nvSpPr>
          <p:cNvPr id="742" name="Rettangolo 5"/>
          <p:cNvSpPr/>
          <p:nvPr/>
        </p:nvSpPr>
        <p:spPr>
          <a:xfrm>
            <a:off x="0" y="4040280"/>
            <a:ext cx="9144000" cy="4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60" bIns="360" anchor="t">
            <a:noAutofit/>
          </a:bodyPr>
          <a:p>
            <a:pPr>
              <a:lnSpc>
                <a:spcPct val="100000"/>
              </a:lnSpc>
              <a:buClr>
                <a:srgbClr val="0082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43" name="CasellaDiTesto 9"/>
          <p:cNvSpPr/>
          <p:nvPr/>
        </p:nvSpPr>
        <p:spPr>
          <a:xfrm rot="18163800">
            <a:off x="267840" y="3857400"/>
            <a:ext cx="179892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iPod</a:t>
            </a:r>
            <a:r>
              <a:rPr b="0" lang="it-IT" sz="1100" spc="-1" strike="noStrike">
                <a:solidFill>
                  <a:srgbClr val="0c171e"/>
                </a:solidFill>
                <a:latin typeface="Arial Rounded MT Bold"/>
              </a:rPr>
              <a:t> (in moto e a piedi)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44" name="CasellaDiTesto 10"/>
          <p:cNvSpPr/>
          <p:nvPr/>
        </p:nvSpPr>
        <p:spPr>
          <a:xfrm rot="18163800">
            <a:off x="2914560" y="3840840"/>
            <a:ext cx="80388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Cellulare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45" name="CasellaDiTesto 11"/>
          <p:cNvSpPr/>
          <p:nvPr/>
        </p:nvSpPr>
        <p:spPr>
          <a:xfrm rot="18163800">
            <a:off x="2316240" y="3716640"/>
            <a:ext cx="91836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Computer 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46" name="CasellaDiTesto 12"/>
          <p:cNvSpPr/>
          <p:nvPr/>
        </p:nvSpPr>
        <p:spPr>
          <a:xfrm>
            <a:off x="1959840" y="37861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Arial Rounded MT Bold"/>
              </a:rPr>
              <a:t>Casa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47" name="CasellaDiTesto 13"/>
          <p:cNvSpPr/>
          <p:nvPr/>
        </p:nvSpPr>
        <p:spPr>
          <a:xfrm>
            <a:off x="-71280" y="3778200"/>
            <a:ext cx="142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Arial Rounded MT Bold"/>
              </a:rPr>
              <a:t>Spostamento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48" name="CasellaDiTesto 14"/>
          <p:cNvSpPr/>
          <p:nvPr/>
        </p:nvSpPr>
        <p:spPr>
          <a:xfrm rot="18163800">
            <a:off x="882000" y="4071600"/>
            <a:ext cx="116064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Radio</a:t>
            </a:r>
            <a:r>
              <a:rPr b="0" lang="it-IT" sz="1100" spc="-1" strike="noStrike">
                <a:solidFill>
                  <a:srgbClr val="0c171e"/>
                </a:solidFill>
                <a:latin typeface="Arial Rounded MT Bold"/>
              </a:rPr>
              <a:t> (in auto)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49" name="CasellaDiTesto 16"/>
          <p:cNvSpPr/>
          <p:nvPr/>
        </p:nvSpPr>
        <p:spPr>
          <a:xfrm rot="18163800">
            <a:off x="3598920" y="3836160"/>
            <a:ext cx="669960" cy="42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TV e libro 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50" name="CasellaDiTesto 31"/>
          <p:cNvSpPr/>
          <p:nvPr/>
        </p:nvSpPr>
        <p:spPr>
          <a:xfrm>
            <a:off x="0" y="5450040"/>
            <a:ext cx="2143080" cy="703080"/>
          </a:xfrm>
          <a:prstGeom prst="rect">
            <a:avLst/>
          </a:prstGeom>
          <a:solidFill>
            <a:srgbClr val="2f58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DISTENSIONE e EUFORIA per la fine del dovere -  LA MENTE IN AVANTI E LA VOGLIA DI TORNARE A CASA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51" name="CasellaDiTesto 34"/>
          <p:cNvSpPr/>
          <p:nvPr/>
        </p:nvSpPr>
        <p:spPr>
          <a:xfrm>
            <a:off x="428760" y="2201400"/>
            <a:ext cx="1395360" cy="50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ASCOLTO, </a:t>
            </a:r>
            <a:endParaRPr b="0" lang="en-US" sz="9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RILASSAMENTO E RIFLESSIONE</a:t>
            </a:r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52" name="CasellaDiTesto 35"/>
          <p:cNvSpPr/>
          <p:nvPr/>
        </p:nvSpPr>
        <p:spPr>
          <a:xfrm>
            <a:off x="84240" y="444600"/>
            <a:ext cx="2916000" cy="1159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IN CONTEMPORANEA A TV: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UTILIZZO MULTITASKING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Facebook, la posta, le chat, i giochi,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fare commenti, guardare le foto, il gossip, farsi gli affari degli altri, curiosare le news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+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SCARICO/ASCOLTO MUSICA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53" name="CasellaDiTesto 37"/>
          <p:cNvSpPr/>
          <p:nvPr/>
        </p:nvSpPr>
        <p:spPr>
          <a:xfrm>
            <a:off x="3276720" y="1062000"/>
            <a:ext cx="1633320" cy="39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SVAGARSI COL QUIZ </a:t>
            </a:r>
            <a:r>
              <a:rPr b="0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in attesa delle notizie…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54" name="CasellaDiTesto 39"/>
          <p:cNvSpPr/>
          <p:nvPr/>
        </p:nvSpPr>
        <p:spPr>
          <a:xfrm>
            <a:off x="3643200" y="4627440"/>
            <a:ext cx="1320840" cy="855360"/>
          </a:xfrm>
          <a:prstGeom prst="rect">
            <a:avLst/>
          </a:prstGeom>
          <a:solidFill>
            <a:srgbClr val="2f58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COMPAGNIA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E RELAX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SOTTOFONDO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CONCENTRAZIONE SERENA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cxnSp>
        <p:nvCxnSpPr>
          <p:cNvPr id="755" name="Connettore 2 42"/>
          <p:cNvCxnSpPr/>
          <p:nvPr/>
        </p:nvCxnSpPr>
        <p:spPr>
          <a:xfrm>
            <a:off x="784800" y="4721400"/>
            <a:ext cx="3960" cy="74016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sp>
        <p:nvSpPr>
          <p:cNvPr id="756" name="CasellaDiTesto 50"/>
          <p:cNvSpPr/>
          <p:nvPr/>
        </p:nvSpPr>
        <p:spPr>
          <a:xfrm>
            <a:off x="5003640" y="5218200"/>
            <a:ext cx="1343160" cy="855360"/>
          </a:xfrm>
          <a:prstGeom prst="rect">
            <a:avLst/>
          </a:prstGeom>
          <a:solidFill>
            <a:srgbClr val="2f58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ESPLOSIONE LIBERATORIA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PURO DIVERTIMENTO SFIDA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cxnSp>
        <p:nvCxnSpPr>
          <p:cNvPr id="757" name="Connettore 2 51"/>
          <p:cNvCxnSpPr/>
          <p:nvPr/>
        </p:nvCxnSpPr>
        <p:spPr>
          <a:xfrm>
            <a:off x="6272280" y="4314600"/>
            <a:ext cx="10080" cy="95796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sp>
        <p:nvSpPr>
          <p:cNvPr id="758" name="CasellaDiTesto 56"/>
          <p:cNvSpPr/>
          <p:nvPr/>
        </p:nvSpPr>
        <p:spPr>
          <a:xfrm>
            <a:off x="5888160" y="2071800"/>
            <a:ext cx="1085760" cy="161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A CASA O DA AMICI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la riunione tra maschi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lo stacco completo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inizia lo spettacolo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fino a notte tarda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cxnSp>
        <p:nvCxnSpPr>
          <p:cNvPr id="759" name="Connettore 2 58"/>
          <p:cNvCxnSpPr/>
          <p:nvPr/>
        </p:nvCxnSpPr>
        <p:spPr>
          <a:xfrm flipH="1" flipV="1">
            <a:off x="6123960" y="3701160"/>
            <a:ext cx="3960" cy="492840"/>
          </a:xfrm>
          <a:prstGeom prst="straightConnector1">
            <a:avLst/>
          </a:prstGeom>
          <a:ln w="25560">
            <a:solidFill>
              <a:srgbClr val="7beb7a"/>
            </a:solidFill>
            <a:miter/>
            <a:headEnd len="med" type="oval" w="med"/>
            <a:tailEnd len="med" type="oval" w="med"/>
          </a:ln>
        </p:spPr>
      </p:cxnSp>
      <p:sp>
        <p:nvSpPr>
          <p:cNvPr id="760" name="CasellaDiTesto 59"/>
          <p:cNvSpPr/>
          <p:nvPr/>
        </p:nvSpPr>
        <p:spPr>
          <a:xfrm rot="18163800">
            <a:off x="8195400" y="3984840"/>
            <a:ext cx="71928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Libro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61" name="CasellaDiTesto 60"/>
          <p:cNvSpPr/>
          <p:nvPr/>
        </p:nvSpPr>
        <p:spPr>
          <a:xfrm>
            <a:off x="6072120" y="803160"/>
            <a:ext cx="1324080" cy="55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DA SOLI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SVAGO E GIOCO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(Facebook</a:t>
            </a:r>
            <a:r>
              <a:rPr b="1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)  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62" name="CasellaDiTesto 62"/>
          <p:cNvSpPr/>
          <p:nvPr/>
        </p:nvSpPr>
        <p:spPr>
          <a:xfrm>
            <a:off x="8215200" y="5715000"/>
            <a:ext cx="901800" cy="505440"/>
          </a:xfrm>
          <a:prstGeom prst="rect">
            <a:avLst/>
          </a:prstGeom>
          <a:solidFill>
            <a:srgbClr val="2f58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L’EVASIONE PRIMA DEL SOGNO</a:t>
            </a:r>
            <a:endParaRPr b="0" lang="en-US" sz="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63" name="CasellaDiTesto 74"/>
          <p:cNvSpPr/>
          <p:nvPr/>
        </p:nvSpPr>
        <p:spPr>
          <a:xfrm rot="18163800">
            <a:off x="5902920" y="3909240"/>
            <a:ext cx="82836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Play / Wii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64" name="CasellaDiTesto 84"/>
          <p:cNvSpPr/>
          <p:nvPr/>
        </p:nvSpPr>
        <p:spPr>
          <a:xfrm>
            <a:off x="2214720" y="4446720"/>
            <a:ext cx="1357200" cy="1464480"/>
          </a:xfrm>
          <a:prstGeom prst="rect">
            <a:avLst/>
          </a:prstGeom>
          <a:solidFill>
            <a:srgbClr val="2f58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CONDIVISIONE: TUFFO NELLE RELAZIONI , ESTENSIONE AMICIZIA  AFFETTIVITA’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CURIOSITA’ DIVERTIMENTO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ORGANIZZAZIONE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65" name="CasellaDiTesto 86"/>
          <p:cNvSpPr/>
          <p:nvPr/>
        </p:nvSpPr>
        <p:spPr>
          <a:xfrm>
            <a:off x="3071880" y="477720"/>
            <a:ext cx="2714400" cy="55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IN CONTEMPORANEA A TV E PC: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TELEFONO PER SENTIRE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LA VOCE DELLA PERSONA CARA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66" name="CasellaDiTesto 69"/>
          <p:cNvSpPr/>
          <p:nvPr/>
        </p:nvSpPr>
        <p:spPr>
          <a:xfrm>
            <a:off x="5236560" y="37861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Arial Rounded MT Bold"/>
              </a:rPr>
              <a:t>Dopocena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67" name="CasellaDiTesto 85"/>
          <p:cNvSpPr/>
          <p:nvPr/>
        </p:nvSpPr>
        <p:spPr>
          <a:xfrm rot="17824800">
            <a:off x="6562080" y="3771720"/>
            <a:ext cx="103032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Computer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68" name="CasellaDiTesto 103"/>
          <p:cNvSpPr/>
          <p:nvPr/>
        </p:nvSpPr>
        <p:spPr>
          <a:xfrm>
            <a:off x="6072120" y="0"/>
            <a:ext cx="2786040" cy="70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A CASA DA SOLI: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GUARDARE IL FILM SCARICATO O DVD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Coinvolgimento emotivo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con gli eroi e le trame delle storie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69" name="CasellaDiTesto 105"/>
          <p:cNvSpPr/>
          <p:nvPr/>
        </p:nvSpPr>
        <p:spPr>
          <a:xfrm>
            <a:off x="6386400" y="5218200"/>
            <a:ext cx="1695600" cy="855360"/>
          </a:xfrm>
          <a:prstGeom prst="rect">
            <a:avLst/>
          </a:prstGeom>
          <a:solidFill>
            <a:srgbClr val="2f58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EMOZIONE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VIVERE DA PROTAGONISTI: IDENTIFICAZIONE E PROIEZIONE 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70" name="CasellaDiTesto 106"/>
          <p:cNvSpPr/>
          <p:nvPr/>
        </p:nvSpPr>
        <p:spPr>
          <a:xfrm>
            <a:off x="7467480" y="2209680"/>
            <a:ext cx="1676520" cy="1159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A CASA GUARDARE LA TV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Programmi di intrattenimento per chiudere la giornata con “spegnimento automatico”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71" name="CasellaDiTesto 108"/>
          <p:cNvSpPr/>
          <p:nvPr/>
        </p:nvSpPr>
        <p:spPr>
          <a:xfrm>
            <a:off x="8153280" y="3325680"/>
            <a:ext cx="97632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A LETTO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72" name="CasellaDiTesto 109"/>
          <p:cNvSpPr/>
          <p:nvPr/>
        </p:nvSpPr>
        <p:spPr>
          <a:xfrm rot="18163800">
            <a:off x="7428240" y="3872520"/>
            <a:ext cx="60012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TV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cxnSp>
        <p:nvCxnSpPr>
          <p:cNvPr id="773" name="Connettore 2 110"/>
          <p:cNvCxnSpPr>
            <a:stCxn id="772" idx="2"/>
          </p:cNvCxnSpPr>
          <p:nvPr/>
        </p:nvCxnSpPr>
        <p:spPr>
          <a:xfrm>
            <a:off x="7838640" y="4073040"/>
            <a:ext cx="19800" cy="856440"/>
          </a:xfrm>
          <a:prstGeom prst="straightConnector1">
            <a:avLst/>
          </a:prstGeom>
          <a:ln w="25560">
            <a:solidFill>
              <a:srgbClr val="5e89ce"/>
            </a:solidFill>
            <a:miter/>
            <a:headEnd len="med" type="oval" w="med"/>
            <a:tailEnd len="med" type="oval" w="med"/>
          </a:ln>
        </p:spPr>
      </p:cxnSp>
      <p:sp>
        <p:nvSpPr>
          <p:cNvPr id="774" name="CasellaDiTesto 111"/>
          <p:cNvSpPr/>
          <p:nvPr/>
        </p:nvSpPr>
        <p:spPr>
          <a:xfrm>
            <a:off x="7520040" y="4527720"/>
            <a:ext cx="873000" cy="855360"/>
          </a:xfrm>
          <a:prstGeom prst="rect">
            <a:avLst/>
          </a:prstGeom>
          <a:solidFill>
            <a:srgbClr val="2f58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PURO RELAX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ABBANDONO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INERZIA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75" name="CasellaDiTesto 159"/>
          <p:cNvSpPr/>
          <p:nvPr/>
        </p:nvSpPr>
        <p:spPr>
          <a:xfrm>
            <a:off x="3298680" y="1500120"/>
            <a:ext cx="1257480" cy="100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SEGUIRE IL TG </a:t>
            </a:r>
            <a:r>
              <a:rPr b="0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con i genitori  a cena o in solitudine preparando la cena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76" name="CasellaDiTesto 160"/>
          <p:cNvSpPr/>
          <p:nvPr/>
        </p:nvSpPr>
        <p:spPr>
          <a:xfrm rot="18163800">
            <a:off x="4010040" y="3585960"/>
            <a:ext cx="2026080" cy="42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c171e"/>
                </a:solidFill>
                <a:latin typeface="Arial Rounded MT Bold"/>
              </a:rPr>
              <a:t>Cellulare (al </a:t>
            </a:r>
            <a:r>
              <a:rPr b="1" lang="it-IT" sz="11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cinema, 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in birreria, a casa di amici</a:t>
            </a:r>
            <a:r>
              <a:rPr b="1" lang="it-IT" sz="1100" spc="-1" strike="noStrike">
                <a:solidFill>
                  <a:srgbClr val="0c171e"/>
                </a:solidFill>
                <a:latin typeface="Arial Rounded MT Bold"/>
                <a:ea typeface="Abadi MT Condensed Light"/>
              </a:rPr>
              <a:t>)</a:t>
            </a:r>
            <a:endParaRPr b="0" lang="en-US" sz="11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77" name="CasellaDiTesto 171"/>
          <p:cNvSpPr/>
          <p:nvPr/>
        </p:nvSpPr>
        <p:spPr>
          <a:xfrm>
            <a:off x="4643280" y="2077920"/>
            <a:ext cx="1141560" cy="85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FUORI CASA </a:t>
            </a:r>
            <a:r>
              <a:rPr b="0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per essere tranquillo e per tranquillizzare i genitori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78" name="CasellaDiTesto 174"/>
          <p:cNvSpPr/>
          <p:nvPr/>
        </p:nvSpPr>
        <p:spPr>
          <a:xfrm>
            <a:off x="5054760" y="4457880"/>
            <a:ext cx="1117440" cy="703080"/>
          </a:xfrm>
          <a:prstGeom prst="rect">
            <a:avLst/>
          </a:prstGeom>
          <a:solidFill>
            <a:srgbClr val="2f58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ANTIPANICO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SICUREZZA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ORGANIZZAZIONE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79" name="CasellaDiTesto 67"/>
          <p:cNvSpPr/>
          <p:nvPr/>
        </p:nvSpPr>
        <p:spPr>
          <a:xfrm>
            <a:off x="3286080" y="2571840"/>
            <a:ext cx="1270080" cy="85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UNA MINORANZA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con il libro sul letto mentre aspetta la cena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80" name="CasellaDiTesto 70"/>
          <p:cNvSpPr/>
          <p:nvPr/>
        </p:nvSpPr>
        <p:spPr>
          <a:xfrm>
            <a:off x="3643200" y="5695920"/>
            <a:ext cx="1309680" cy="398520"/>
          </a:xfrm>
          <a:prstGeom prst="rect">
            <a:avLst/>
          </a:prstGeom>
          <a:solidFill>
            <a:srgbClr val="2f58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badi MT Condensed Light"/>
                <a:ea typeface="Abadi MT Condensed Light"/>
              </a:rPr>
              <a:t>LIBRO come EVASIONE 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81" name="CasellaDiTesto 75"/>
          <p:cNvSpPr/>
          <p:nvPr/>
        </p:nvSpPr>
        <p:spPr>
          <a:xfrm>
            <a:off x="7416720" y="1422360"/>
            <a:ext cx="1727280" cy="70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e4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A CASA IN COPPIA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GUARDARE LA TV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9292a"/>
                </a:solidFill>
                <a:latin typeface="Abadi MT Condensed Light"/>
                <a:ea typeface="Abadi MT Condensed Light"/>
              </a:rPr>
              <a:t>Serie TV o, più raramente, film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82" name="CasellaDiTesto 7"/>
          <p:cNvSpPr/>
          <p:nvPr/>
        </p:nvSpPr>
        <p:spPr>
          <a:xfrm>
            <a:off x="0" y="28440"/>
            <a:ext cx="601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90f33"/>
                </a:solidFill>
                <a:latin typeface="Arial Rounded MT Bold"/>
              </a:rPr>
              <a:t>Il Technoday dei giovani: pomeriggio </a:t>
            </a:r>
            <a:r>
              <a:rPr b="0" lang="it-IT" sz="2000" spc="-1" strike="noStrike">
                <a:solidFill>
                  <a:srgbClr val="e90f33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e90f33"/>
                </a:solidFill>
                <a:latin typeface="Arial Rounded MT Bold"/>
              </a:rPr>
              <a:t> sera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2124000" y="1844640"/>
            <a:ext cx="7020000" cy="2521080"/>
          </a:xfrm>
          <a:prstGeom prst="rect">
            <a:avLst/>
          </a:prstGeom>
          <a:solidFill>
            <a:srgbClr val="0082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Gli impatti sugli acquisti</a:t>
            </a:r>
            <a:endParaRPr b="0" lang="en-US" sz="36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0" y="-27000"/>
            <a:ext cx="9144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82d1"/>
                </a:solidFill>
                <a:latin typeface="Arial"/>
              </a:rPr>
              <a:t>Musica</a:t>
            </a: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474840"/>
            <a:ext cx="91440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82d1"/>
                </a:solidFill>
                <a:latin typeface="Arial"/>
              </a:rPr>
              <a:t>Trend 2007/2009</a:t>
            </a:r>
            <a:r>
              <a:rPr b="1" lang="it-IT" sz="2400" spc="-1" strike="noStrike">
                <a:solidFill>
                  <a:srgbClr val="0082d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516720" y="1413000"/>
            <a:ext cx="2266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7403a"/>
                </a:solidFill>
                <a:latin typeface="Arial"/>
              </a:rPr>
              <a:t>% dichiarazione di quanti ne sono stati acquistati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-71280" y="6021360"/>
            <a:ext cx="37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 Tot. popolazione con 14 anni o più nei 3 anni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564000" y="3789360"/>
            <a:ext cx="1152360" cy="115236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bb7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Arial"/>
              </a:rPr>
              <a:t>Quanti?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148360" y="6064200"/>
            <a:ext cx="36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 </a:t>
            </a: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acquirenti nei 3 anni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9528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5 mil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258920" y="49338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1 mil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12400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8 mil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17680" y="3083040"/>
            <a:ext cx="844560" cy="2492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362240" y="3492360"/>
            <a:ext cx="855360" cy="2082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217600" y="3787920"/>
            <a:ext cx="844560" cy="178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08280" y="27176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16365"/>
                </a:solidFill>
                <a:latin typeface="Arial"/>
              </a:rPr>
              <a:t>49</a:t>
            </a:r>
            <a:endParaRPr b="0" lang="en-US" sz="1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754640" y="31273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16365"/>
                </a:solidFill>
                <a:latin typeface="Arial"/>
              </a:rPr>
              <a:t>41</a:t>
            </a:r>
            <a:endParaRPr b="0" lang="en-US" sz="1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610360" y="34243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16365"/>
                </a:solidFill>
                <a:latin typeface="Arial"/>
              </a:rPr>
              <a:t>35</a:t>
            </a:r>
            <a:endParaRPr b="0" lang="en-US" sz="1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348000" y="1851120"/>
            <a:ext cx="149400" cy="149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666600" y="17733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16365"/>
                </a:solidFill>
                <a:latin typeface="Arial"/>
              </a:rPr>
              <a:t>2007</a:t>
            </a:r>
            <a:endParaRPr b="0" lang="en-US" sz="1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351320" y="1851120"/>
            <a:ext cx="149400" cy="149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546080" y="17733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16365"/>
                </a:solidFill>
                <a:latin typeface="Arial"/>
              </a:rPr>
              <a:t>2008</a:t>
            </a:r>
            <a:endParaRPr b="0" lang="en-US" sz="1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216400" y="1851120"/>
            <a:ext cx="147600" cy="149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424120" y="17733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16365"/>
                </a:solidFill>
                <a:latin typeface="Arial"/>
              </a:rPr>
              <a:t>2009</a:t>
            </a:r>
            <a:endParaRPr b="0" lang="en-US" sz="1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208480" y="3390840"/>
            <a:ext cx="204840" cy="2160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149880" y="4518000"/>
            <a:ext cx="214560" cy="1033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101000" y="4944960"/>
            <a:ext cx="206280" cy="606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43840" y="5030640"/>
            <a:ext cx="204840" cy="52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13320" y="3173400"/>
            <a:ext cx="214200" cy="2378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364440" y="4386240"/>
            <a:ext cx="206280" cy="1165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307280" y="5162400"/>
            <a:ext cx="214200" cy="389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8248680" y="5210280"/>
            <a:ext cx="214200" cy="341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627520" y="3087720"/>
            <a:ext cx="206640" cy="2463840"/>
          </a:xfrm>
          <a:prstGeom prst="rect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570720" y="4471920"/>
            <a:ext cx="214200" cy="1079640"/>
          </a:xfrm>
          <a:prstGeom prst="rect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521480" y="5078520"/>
            <a:ext cx="204840" cy="473040"/>
          </a:xfrm>
          <a:prstGeom prst="rect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8462880" y="5248440"/>
            <a:ext cx="206280" cy="303120"/>
          </a:xfrm>
          <a:prstGeom prst="rect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147640" y="30877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16365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158880" y="42148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16365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092360" y="4641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16365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8027280" y="47275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16365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438160" y="28702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16365"/>
                </a:solidFill>
                <a:latin typeface="Arial"/>
              </a:rPr>
              <a:t>55</a:t>
            </a:r>
            <a:endParaRPr b="0" lang="en-US" sz="15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371640" y="40831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16365"/>
                </a:solidFill>
                <a:latin typeface="Arial"/>
              </a:rPr>
              <a:t>27</a:t>
            </a:r>
            <a:endParaRPr b="0" lang="en-US" sz="15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345080" y="48592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16365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316720" y="49068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16365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50920" y="27846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16365"/>
                </a:solidFill>
                <a:latin typeface="Arial"/>
              </a:rPr>
              <a:t>57</a:t>
            </a:r>
            <a:endParaRPr b="0" lang="en-US" sz="15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587280" y="41688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16365"/>
                </a:solidFill>
                <a:latin typeface="Arial"/>
              </a:rPr>
              <a:t>25</a:t>
            </a:r>
            <a:endParaRPr b="0" lang="en-US" sz="15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524000" y="47750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16365"/>
                </a:solidFill>
                <a:latin typeface="Arial"/>
              </a:rPr>
              <a:t>11</a:t>
            </a:r>
            <a:endParaRPr b="0" lang="en-US" sz="15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8532360" y="49449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16365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144760" y="5707080"/>
            <a:ext cx="87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Meno di 3 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153120" y="5707080"/>
            <a:ext cx="72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Da 4 a 5 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089480" y="5707080"/>
            <a:ext cx="82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Da 6 a 10 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8024400" y="5707080"/>
            <a:ext cx="78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Più di 10 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95280" y="141300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7403a"/>
                </a:solidFill>
                <a:latin typeface="Arial"/>
              </a:rPr>
              <a:t>% dichiarazione di acquisto cd e dvd musicali originali nel corso dell’anno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4500720" y="6021360"/>
            <a:ext cx="446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Chi ha acquistato DVd negli ultimi 12 mesi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0"/>
            <a:ext cx="9144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2d1"/>
                </a:solidFill>
                <a:latin typeface="Arial"/>
              </a:rPr>
              <a:t>Film- Acquisto di DVD</a:t>
            </a:r>
            <a:r>
              <a:rPr b="1" lang="it-IT" sz="2000" spc="-1" strike="noStrike">
                <a:solidFill>
                  <a:srgbClr val="0082d1"/>
                </a:solidFill>
                <a:latin typeface="Arial"/>
              </a:rPr>
              <a:t> </a:t>
            </a:r>
            <a:br>
              <a:rPr sz="3600"/>
            </a:br>
            <a:r>
              <a:rPr b="1" i="1" lang="it-IT" sz="2000" spc="-1" strike="noStrike">
                <a:solidFill>
                  <a:srgbClr val="0082d1"/>
                </a:solidFill>
                <a:latin typeface="Arial"/>
              </a:rPr>
              <a:t>Trend 2008/2009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332000" y="2205000"/>
            <a:ext cx="936360" cy="468360"/>
          </a:xfrm>
          <a:prstGeom prst="line">
            <a:avLst/>
          </a:prstGeom>
          <a:ln w="34920">
            <a:solidFill>
              <a:srgbClr val="ec1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987640" y="3284640"/>
            <a:ext cx="1152720" cy="1081080"/>
          </a:xfrm>
          <a:custGeom>
            <a:avLst/>
            <a:gdLst>
              <a:gd name="textAreaLeft" fmla="*/ 180000 w 1152720"/>
              <a:gd name="textAreaRight" fmla="*/ 1008720 w 1152720"/>
              <a:gd name="textAreaTop" fmla="*/ 270360 h 1081080"/>
              <a:gd name="textAreaBottom" fmla="*/ 811080 h 1081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bb7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Arial"/>
              </a:rPr>
              <a:t>Quanti?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-252360" y="5877000"/>
            <a:ext cx="37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Tot. Popolazione con 14 anni o più nei 2 anni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835280" y="4653000"/>
            <a:ext cx="573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2 mil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85800" y="4653000"/>
            <a:ext cx="573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4 mil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95280" y="98100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7403a"/>
                </a:solidFill>
                <a:latin typeface="Arial"/>
              </a:rPr>
              <a:t>% dichiarazione di acquisto dvd non musicali nel corso dell’anno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95280" y="2620800"/>
            <a:ext cx="1163520" cy="279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58800" y="3135240"/>
            <a:ext cx="1165320" cy="2276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964080" y="2247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16365"/>
                </a:solidFill>
                <a:latin typeface="Arial"/>
              </a:rPr>
              <a:t>27</a:t>
            </a:r>
            <a:endParaRPr b="0" lang="en-US" sz="1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129040" y="27622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16365"/>
                </a:solidFill>
                <a:latin typeface="Arial"/>
              </a:rPr>
              <a:t>22</a:t>
            </a:r>
            <a:endParaRPr b="0" lang="en-US" sz="1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687840" y="1419120"/>
            <a:ext cx="141120" cy="142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925080" y="13399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645080" y="1413000"/>
            <a:ext cx="142920" cy="14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856760" y="13539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300720" y="981000"/>
            <a:ext cx="2266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7403a"/>
                </a:solidFill>
                <a:latin typeface="Arial"/>
              </a:rPr>
              <a:t>% dichiarazione di quanti ne sono stati acquistati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graphicFrame>
        <p:nvGraphicFramePr>
          <p:cNvPr id="851" name=""/>
          <p:cNvGraphicFramePr/>
          <p:nvPr/>
        </p:nvGraphicFramePr>
        <p:xfrm>
          <a:off x="3924360" y="2133720"/>
          <a:ext cx="552276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133720"/>
                    <a:ext cx="552276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4500720" y="6021360"/>
            <a:ext cx="446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Chi ha noleggiato DVd negli ultimi 12 mesi  nei 2 anni 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411280" y="0"/>
            <a:ext cx="6624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2d1"/>
                </a:solidFill>
                <a:latin typeface="Arial"/>
              </a:rPr>
              <a:t>Film - Noleggio DVD</a:t>
            </a:r>
            <a:r>
              <a:rPr b="1" lang="it-IT" sz="2400" spc="-1" strike="noStrike">
                <a:solidFill>
                  <a:srgbClr val="0082d1"/>
                </a:solidFill>
                <a:latin typeface="Arial"/>
              </a:rPr>
              <a:t>  </a:t>
            </a:r>
            <a:br>
              <a:rPr sz="2400"/>
            </a:br>
            <a:r>
              <a:rPr b="1" i="1" lang="it-IT" sz="2000" spc="-1" strike="noStrike">
                <a:solidFill>
                  <a:srgbClr val="0082d1"/>
                </a:solidFill>
                <a:latin typeface="Arial"/>
              </a:rPr>
              <a:t>Trend 2008/2009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258920" y="2349360"/>
            <a:ext cx="936720" cy="468360"/>
          </a:xfrm>
          <a:prstGeom prst="line">
            <a:avLst/>
          </a:prstGeom>
          <a:ln w="34920">
            <a:solidFill>
              <a:srgbClr val="ec1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987640" y="3141720"/>
            <a:ext cx="1297080" cy="122400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bb7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Arial"/>
              </a:rPr>
              <a:t>Quanti?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0" y="6021360"/>
            <a:ext cx="331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Tot. Popolazione con 14 anni o più nei 2 anni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979640" y="4664160"/>
            <a:ext cx="573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0 mil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58880" y="4653000"/>
            <a:ext cx="573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13 mil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3924360" y="2276640"/>
          <a:ext cx="552276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276640"/>
                    <a:ext cx="552276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2" name=""/>
          <p:cNvSpPr/>
          <p:nvPr/>
        </p:nvSpPr>
        <p:spPr>
          <a:xfrm>
            <a:off x="395280" y="2884320"/>
            <a:ext cx="1197000" cy="258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592280" y="3409920"/>
            <a:ext cx="118584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973440" y="2513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16365"/>
                </a:solidFill>
                <a:latin typeface="Arial"/>
              </a:rPr>
              <a:t>25</a:t>
            </a:r>
            <a:endParaRPr b="0" lang="en-US" sz="1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158200" y="3027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365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273480" y="1636560"/>
            <a:ext cx="141120" cy="141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615480" y="15699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514760" y="1636560"/>
            <a:ext cx="141480" cy="141480"/>
          </a:xfrm>
          <a:prstGeom prst="rect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856760" y="15699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95280" y="98100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7403a"/>
                </a:solidFill>
                <a:latin typeface="Arial"/>
              </a:rPr>
              <a:t>% dichiarazione di noleggio di dvd non musicali nel corso dell’anno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300720" y="981000"/>
            <a:ext cx="2266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7403a"/>
                </a:solidFill>
                <a:latin typeface="Arial"/>
              </a:rPr>
              <a:t>% dichiarazione di quanti ne sono stati noleggiati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4427640" y="6021360"/>
            <a:ext cx="446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Chi è andato al cinema negli ultimi 12 mesi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0" y="0"/>
            <a:ext cx="9144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2d1"/>
                </a:solidFill>
                <a:latin typeface="Arial"/>
              </a:rPr>
              <a:t>Film - Cinema</a:t>
            </a:r>
            <a:br>
              <a:rPr sz="1800"/>
            </a:br>
            <a:r>
              <a:rPr b="1" i="1" lang="it-IT" sz="2000" spc="-1" strike="noStrike">
                <a:solidFill>
                  <a:srgbClr val="0082d1"/>
                </a:solidFill>
                <a:latin typeface="Arial"/>
              </a:rPr>
              <a:t>Trend 2008/2009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042920" y="2205000"/>
            <a:ext cx="1152720" cy="144360"/>
          </a:xfrm>
          <a:prstGeom prst="line">
            <a:avLst/>
          </a:prstGeom>
          <a:ln w="34920">
            <a:solidFill>
              <a:srgbClr val="ec1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987640" y="3141720"/>
            <a:ext cx="1370160" cy="1224000"/>
          </a:xfrm>
          <a:custGeom>
            <a:avLst/>
            <a:gdLst>
              <a:gd name="textAreaLeft" fmla="*/ 213840 w 1370160"/>
              <a:gd name="textAreaRight" fmla="*/ 1199160 w 137016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bb7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Arial"/>
              </a:rPr>
              <a:t>Quante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Arial"/>
              </a:rPr>
              <a:t>Volte ?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-181080" y="6021360"/>
            <a:ext cx="453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Tot. Popolazione con 14 anni o più nei 2 anni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835280" y="4653000"/>
            <a:ext cx="573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4,3 mil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4653000"/>
            <a:ext cx="573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5,6 mil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65120" y="2838600"/>
            <a:ext cx="1165320" cy="2068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630440" y="2959200"/>
            <a:ext cx="1165320" cy="1947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022760" y="24652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16365"/>
                </a:solidFill>
                <a:latin typeface="Arial"/>
              </a:rPr>
              <a:t>50</a:t>
            </a:r>
            <a:endParaRPr b="0" lang="en-US" sz="1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188080" y="25858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16365"/>
                </a:solidFill>
                <a:latin typeface="Arial"/>
              </a:rPr>
              <a:t>47</a:t>
            </a:r>
            <a:endParaRPr b="0" lang="en-US" sz="1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398760" y="1851120"/>
            <a:ext cx="141480" cy="142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742560" y="17859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429080" y="1851120"/>
            <a:ext cx="142920" cy="14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641120" y="17859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4284720" y="2251080"/>
          <a:ext cx="4788000" cy="31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251080"/>
                    <a:ext cx="478800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"/>
          <p:cNvSpPr/>
          <p:nvPr/>
        </p:nvSpPr>
        <p:spPr>
          <a:xfrm>
            <a:off x="395280" y="98100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7403a"/>
                </a:solidFill>
                <a:latin typeface="Arial"/>
              </a:rPr>
              <a:t>% dichiarazione di chi è andato al cinema nel corso dell’anno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300720" y="981000"/>
            <a:ext cx="2266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7403a"/>
                </a:solidFill>
                <a:latin typeface="Arial"/>
              </a:rPr>
              <a:t>% dichiarazione di quante volte sono andati al cinema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4920" y="571680"/>
            <a:ext cx="9090000" cy="5419440"/>
            <a:chOff x="34920" y="571680"/>
            <a:chExt cx="9090000" cy="5419440"/>
          </a:xfrm>
        </p:grpSpPr>
        <p:sp>
          <p:nvSpPr>
            <p:cNvPr id="269" name="Rectangle 3"/>
            <p:cNvSpPr/>
            <p:nvPr/>
          </p:nvSpPr>
          <p:spPr>
            <a:xfrm>
              <a:off x="890640" y="884160"/>
              <a:ext cx="7216560" cy="4857840"/>
            </a:xfrm>
            <a:prstGeom prst="rect">
              <a:avLst/>
            </a:prstGeom>
            <a:solidFill>
              <a:srgbClr val="0082d1">
                <a:alpha val="25000"/>
              </a:srgbClr>
            </a:solidFill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70" name="Line 4"/>
            <p:cNvSpPr/>
            <p:nvPr/>
          </p:nvSpPr>
          <p:spPr>
            <a:xfrm>
              <a:off x="3514680" y="884160"/>
              <a:ext cx="1800" cy="4857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71" name="Line 5"/>
            <p:cNvSpPr/>
            <p:nvPr/>
          </p:nvSpPr>
          <p:spPr>
            <a:xfrm>
              <a:off x="890640" y="3873600"/>
              <a:ext cx="721656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72" name="Rectangle 6"/>
            <p:cNvSpPr/>
            <p:nvPr/>
          </p:nvSpPr>
          <p:spPr>
            <a:xfrm>
              <a:off x="34920" y="3573360"/>
              <a:ext cx="1393920" cy="574920"/>
            </a:xfrm>
            <a:prstGeom prst="rect">
              <a:avLst/>
            </a:prstGeom>
            <a:solidFill>
              <a:srgbClr val="0082d1"/>
            </a:solidFill>
            <a:ln w="9360">
              <a:solidFill>
                <a:srgbClr val="6163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Tecnologia (-)</a:t>
              </a:r>
              <a:endParaRPr b="0" lang="en-US" sz="16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73" name="Rectangle 7"/>
            <p:cNvSpPr/>
            <p:nvPr/>
          </p:nvSpPr>
          <p:spPr>
            <a:xfrm>
              <a:off x="7731000" y="3568680"/>
              <a:ext cx="1393920" cy="574560"/>
            </a:xfrm>
            <a:prstGeom prst="rect">
              <a:avLst/>
            </a:prstGeom>
            <a:solidFill>
              <a:srgbClr val="0082d1"/>
            </a:solidFill>
            <a:ln w="9360">
              <a:solidFill>
                <a:srgbClr val="6163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Tecnologia (+)</a:t>
              </a:r>
              <a:endParaRPr b="0" lang="en-US" sz="16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74" name="Rectangle 8"/>
            <p:cNvSpPr/>
            <p:nvPr/>
          </p:nvSpPr>
          <p:spPr>
            <a:xfrm>
              <a:off x="2817720" y="5416560"/>
              <a:ext cx="1393920" cy="574560"/>
            </a:xfrm>
            <a:prstGeom prst="rect">
              <a:avLst/>
            </a:prstGeom>
            <a:solidFill>
              <a:srgbClr val="0082d1"/>
            </a:solidFill>
            <a:ln w="9360">
              <a:solidFill>
                <a:srgbClr val="6163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Cultura (-)</a:t>
              </a:r>
              <a:endParaRPr b="0" lang="en-US" sz="16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75" name="Rectangle 9"/>
            <p:cNvSpPr/>
            <p:nvPr/>
          </p:nvSpPr>
          <p:spPr>
            <a:xfrm>
              <a:off x="2830680" y="571680"/>
              <a:ext cx="1393560" cy="574560"/>
            </a:xfrm>
            <a:prstGeom prst="rect">
              <a:avLst/>
            </a:prstGeom>
            <a:solidFill>
              <a:srgbClr val="0082d1"/>
            </a:solidFill>
            <a:ln w="9360">
              <a:solidFill>
                <a:srgbClr val="6163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Arial"/>
                </a:rPr>
                <a:t>Cultura (+)</a:t>
              </a:r>
              <a:endParaRPr b="0" lang="en-US" sz="16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82d1"/>
                </a:solidFill>
                <a:latin typeface="Arial"/>
              </a:rPr>
              <a:t>Gli assi di riferimento</a:t>
            </a: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11280" y="1916280"/>
            <a:ext cx="4319640" cy="2889720"/>
          </a:xfrm>
          <a:prstGeom prst="ellipse">
            <a:avLst/>
          </a:prstGeom>
          <a:gradFill rotWithShape="0">
            <a:gsLst>
              <a:gs pos="0">
                <a:srgbClr val="ec1802"/>
              </a:gs>
              <a:gs pos="100000">
                <a:srgbClr val="f9cdc8"/>
              </a:gs>
            </a:gsLst>
            <a:lin ang="5400000"/>
          </a:gradFill>
          <a:ln w="9360">
            <a:solidFill>
              <a:srgbClr val="f74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mpatto sugli acquisti e sulle modalità di fruizione</a:t>
            </a: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3708360" y="6021360"/>
            <a:ext cx="540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Chi ha acquistato libri negli ultimi 12 mesi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-108000" y="0"/>
            <a:ext cx="9144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2d1"/>
                </a:solidFill>
                <a:latin typeface="Arial"/>
              </a:rPr>
              <a:t>Libri</a:t>
            </a:r>
            <a:br>
              <a:rPr sz="3600"/>
            </a:br>
            <a:br>
              <a:rPr sz="1800"/>
            </a:br>
            <a:r>
              <a:rPr b="1" i="1" lang="it-IT" sz="2000" spc="-1" strike="noStrike">
                <a:solidFill>
                  <a:srgbClr val="0082d1"/>
                </a:solidFill>
                <a:latin typeface="Arial"/>
              </a:rPr>
              <a:t>Trend 2008/2009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116000" y="2708280"/>
            <a:ext cx="1008000" cy="287280"/>
          </a:xfrm>
          <a:prstGeom prst="line">
            <a:avLst/>
          </a:prstGeom>
          <a:ln w="34920">
            <a:solidFill>
              <a:srgbClr val="ec1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987640" y="3141720"/>
            <a:ext cx="1370160" cy="1224000"/>
          </a:xfrm>
          <a:custGeom>
            <a:avLst/>
            <a:gdLst>
              <a:gd name="textAreaLeft" fmla="*/ 213840 w 1370160"/>
              <a:gd name="textAreaRight" fmla="*/ 1199160 w 137016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bb7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Arial"/>
              </a:rPr>
              <a:t>Quanti?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260360" y="4653000"/>
            <a:ext cx="573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3 mil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08000" y="4653000"/>
            <a:ext cx="573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5 mil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-324000" y="6021360"/>
            <a:ext cx="453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Tot. Popolazione con 14 anni o più nei 2 anni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3995640" y="1989000"/>
          <a:ext cx="552312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55231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"/>
          <p:cNvSpPr/>
          <p:nvPr/>
        </p:nvSpPr>
        <p:spPr>
          <a:xfrm>
            <a:off x="281160" y="3287880"/>
            <a:ext cx="1164960" cy="19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446120" y="3408480"/>
            <a:ext cx="1165320" cy="1860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838440" y="29145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16365"/>
                </a:solidFill>
                <a:latin typeface="Arial"/>
              </a:rPr>
              <a:t>48</a:t>
            </a:r>
            <a:endParaRPr b="0" lang="en-US" sz="1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003760" y="3035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16365"/>
                </a:solidFill>
                <a:latin typeface="Arial"/>
              </a:rPr>
              <a:t>45</a:t>
            </a:r>
            <a:endParaRPr b="0" lang="en-US" sz="19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559320" y="1700280"/>
            <a:ext cx="152280" cy="154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848760" y="16286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638600" y="1700280"/>
            <a:ext cx="152640" cy="154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928400" y="16286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95280" y="126828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7403a"/>
                </a:solidFill>
                <a:latin typeface="Arial"/>
              </a:rPr>
              <a:t>% dichiarazione di chi ha acquistato almeno un libro nel corso dell’anno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300720" y="1268280"/>
            <a:ext cx="2266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7403a"/>
                </a:solidFill>
                <a:latin typeface="Arial"/>
              </a:rPr>
              <a:t>% dichiarazione numero di libri acquistati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2124000" y="1844640"/>
            <a:ext cx="7020000" cy="2521080"/>
          </a:xfrm>
          <a:prstGeom prst="rect">
            <a:avLst/>
          </a:prstGeom>
          <a:solidFill>
            <a:srgbClr val="0082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Le prospettive future </a:t>
            </a:r>
            <a:endParaRPr b="0" lang="en-US" sz="36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6360" y="620640"/>
            <a:ext cx="9144000" cy="560556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0" y="-27000"/>
            <a:ext cx="9144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82d1"/>
                </a:solidFill>
                <a:latin typeface="Arial"/>
              </a:rPr>
              <a:t>Opinioni sulle tecnologie</a:t>
            </a:r>
            <a:br>
              <a:rPr sz="3200"/>
            </a:b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916360" y="981000"/>
            <a:ext cx="39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7403a"/>
                </a:solidFill>
                <a:latin typeface="Arial"/>
              </a:rPr>
              <a:t>% rispondenti “molto d’accordo”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400720" y="6208560"/>
            <a:ext cx="529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Tot. Popolazione di 14 anni o più 2007 2008 e 2009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rot="10800000">
            <a:off x="5651640" y="3931920"/>
            <a:ext cx="454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16365"/>
                </a:solidFill>
                <a:latin typeface="Arial"/>
              </a:rPr>
              <a:t>2007 NA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rot="10800000">
            <a:off x="7380360" y="3933360"/>
            <a:ext cx="454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16365"/>
                </a:solidFill>
                <a:latin typeface="Arial"/>
              </a:rPr>
              <a:t>2007 NA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rot="10800000">
            <a:off x="7884720" y="3933360"/>
            <a:ext cx="454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16365"/>
                </a:solidFill>
                <a:latin typeface="Arial"/>
              </a:rPr>
              <a:t>2008 NA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268360" y="692280"/>
            <a:ext cx="3311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3203640" y="731880"/>
            <a:ext cx="978840" cy="320400"/>
            <a:chOff x="3203640" y="731880"/>
            <a:chExt cx="978840" cy="320400"/>
          </a:xfrm>
        </p:grpSpPr>
        <p:sp>
          <p:nvSpPr>
            <p:cNvPr id="920" name=""/>
            <p:cNvSpPr/>
            <p:nvPr/>
          </p:nvSpPr>
          <p:spPr>
            <a:xfrm>
              <a:off x="3203640" y="812880"/>
              <a:ext cx="179280" cy="179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590280" y="731880"/>
              <a:ext cx="592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16365"/>
                  </a:solidFill>
                  <a:latin typeface="Arial"/>
                </a:rPr>
                <a:t>2007</a:t>
              </a:r>
              <a:endParaRPr b="0" lang="en-US" sz="21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4500720" y="731880"/>
            <a:ext cx="978840" cy="320400"/>
            <a:chOff x="4500720" y="731880"/>
            <a:chExt cx="978840" cy="320400"/>
          </a:xfrm>
        </p:grpSpPr>
        <p:sp>
          <p:nvSpPr>
            <p:cNvPr id="923" name=""/>
            <p:cNvSpPr/>
            <p:nvPr/>
          </p:nvSpPr>
          <p:spPr>
            <a:xfrm>
              <a:off x="4500720" y="804960"/>
              <a:ext cx="179280" cy="189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87360" y="731880"/>
              <a:ext cx="592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16365"/>
                  </a:solidFill>
                  <a:latin typeface="Arial"/>
                </a:rPr>
                <a:t>2008</a:t>
              </a:r>
              <a:endParaRPr b="0" lang="en-US" sz="21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5724360" y="731880"/>
            <a:ext cx="978840" cy="320400"/>
            <a:chOff x="5724360" y="731880"/>
            <a:chExt cx="978840" cy="320400"/>
          </a:xfrm>
        </p:grpSpPr>
        <p:sp>
          <p:nvSpPr>
            <p:cNvPr id="926" name=""/>
            <p:cNvSpPr/>
            <p:nvPr/>
          </p:nvSpPr>
          <p:spPr>
            <a:xfrm>
              <a:off x="5724360" y="814320"/>
              <a:ext cx="179280" cy="179280"/>
            </a:xfrm>
            <a:prstGeom prst="rect">
              <a:avLst/>
            </a:prstGeom>
            <a:solidFill>
              <a:srgbClr val="f740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111000" y="731880"/>
              <a:ext cx="592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16365"/>
                  </a:solidFill>
                  <a:latin typeface="Arial"/>
                </a:rPr>
                <a:t>2009</a:t>
              </a:r>
              <a:endParaRPr b="0" lang="en-US" sz="21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2124000" y="0"/>
            <a:ext cx="7020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2d1"/>
                </a:solidFill>
                <a:latin typeface="Arial"/>
              </a:rPr>
              <a:t>Un quarto degli Italiani è disposto a pagare per ciò che oggi riesce ad ottenere gratis</a:t>
            </a:r>
            <a:endParaRPr b="0" lang="en-US" sz="2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920" y="1413000"/>
            <a:ext cx="835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7403a"/>
                </a:solidFill>
                <a:latin typeface="Arial"/>
              </a:rPr>
              <a:t>Quanto sarebbe interessato a... (% rispondenti molto + abbastanza)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30" name="Text Box 5"/>
          <p:cNvSpPr/>
          <p:nvPr/>
        </p:nvSpPr>
        <p:spPr>
          <a:xfrm>
            <a:off x="5437080" y="6107040"/>
            <a:ext cx="36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Si connettono ad internet 28 mil.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50760" y="1989000"/>
          <a:ext cx="90932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0" y="1989000"/>
                    <a:ext cx="90932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3" name=""/>
          <p:cNvSpPr/>
          <p:nvPr/>
        </p:nvSpPr>
        <p:spPr>
          <a:xfrm>
            <a:off x="824040" y="1797120"/>
            <a:ext cx="19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616365"/>
                </a:solidFill>
                <a:latin typeface="Arial"/>
              </a:rPr>
              <a:t>7 milioni di individui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535920" y="177336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616365"/>
                </a:solidFill>
                <a:latin typeface="Arial"/>
              </a:rPr>
              <a:t>7,5 milioni di individui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743880" y="3092400"/>
            <a:ext cx="19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616365"/>
                </a:solidFill>
                <a:latin typeface="Arial"/>
              </a:rPr>
              <a:t>3 milioni di individui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2124000" y="0"/>
            <a:ext cx="7020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2d1"/>
                </a:solidFill>
                <a:latin typeface="Arial"/>
              </a:rPr>
              <a:t>Le differenze tra eclettici e technofan</a:t>
            </a:r>
            <a:endParaRPr b="0" lang="en-US" sz="2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195640" y="476280"/>
            <a:ext cx="712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7403a"/>
                </a:solidFill>
                <a:latin typeface="Arial"/>
              </a:rPr>
              <a:t>Quanto sarebbe interessato a... (% rispondenti molto + abbastanza)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38" name="Text Box 5"/>
          <p:cNvSpPr/>
          <p:nvPr/>
        </p:nvSpPr>
        <p:spPr>
          <a:xfrm>
            <a:off x="5437080" y="6107040"/>
            <a:ext cx="36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Si connettono ad internet 28 mil.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069920" y="2708280"/>
            <a:ext cx="622440" cy="2327400"/>
          </a:xfrm>
          <a:prstGeom prst="rect">
            <a:avLst/>
          </a:prstGeom>
          <a:solidFill>
            <a:srgbClr val="ffcc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995640" y="2637000"/>
            <a:ext cx="569880" cy="2392200"/>
          </a:xfrm>
          <a:prstGeom prst="rect">
            <a:avLst/>
          </a:prstGeom>
          <a:solidFill>
            <a:srgbClr val="ffcc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943680" y="3873600"/>
            <a:ext cx="581040" cy="1162080"/>
          </a:xfrm>
          <a:prstGeom prst="rect">
            <a:avLst/>
          </a:prstGeom>
          <a:solidFill>
            <a:srgbClr val="ffcc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258920" y="2276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140360" y="2276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7093080" y="3500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77440" y="5195880"/>
            <a:ext cx="262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Sottoscrivere un abbonamento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52600" y="5424480"/>
            <a:ext cx="26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ad un servizio online che mi dia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745200" y="5653080"/>
            <a:ext cx="23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un accesso illimitato ai film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519000" y="5195880"/>
            <a:ext cx="262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Sottoscrivere un abbonamento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494160" y="5424480"/>
            <a:ext cx="26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ad un servizio online che mi dia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471480" y="5653080"/>
            <a:ext cx="2769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un accesso illimitato alla musica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452640" y="5195880"/>
            <a:ext cx="262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Sottoscrivere un abbonamento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664680" y="5424480"/>
            <a:ext cx="217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su cellulare che mi dia un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528240" y="5653080"/>
            <a:ext cx="250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accesso illimitato alla musica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763640" y="2708280"/>
            <a:ext cx="622440" cy="2305080"/>
          </a:xfrm>
          <a:prstGeom prst="rect">
            <a:avLst/>
          </a:prstGeom>
          <a:solidFill>
            <a:srgbClr val="ff66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716360" y="2637000"/>
            <a:ext cx="622440" cy="2376360"/>
          </a:xfrm>
          <a:prstGeom prst="rect">
            <a:avLst/>
          </a:prstGeom>
          <a:solidFill>
            <a:srgbClr val="ff66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669080" y="3860640"/>
            <a:ext cx="622440" cy="1152720"/>
          </a:xfrm>
          <a:prstGeom prst="rect">
            <a:avLst/>
          </a:prstGeom>
          <a:solidFill>
            <a:srgbClr val="ff99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484360" y="1268280"/>
            <a:ext cx="622440" cy="3745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508720" y="1628640"/>
            <a:ext cx="622080" cy="3376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8459640" y="3500280"/>
            <a:ext cx="622440" cy="1497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812000" y="3500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8675640" y="31417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979640" y="22906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859280" y="2276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651640" y="1268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700360" y="9810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140360" y="981000"/>
            <a:ext cx="190440" cy="217440"/>
          </a:xfrm>
          <a:prstGeom prst="rect">
            <a:avLst/>
          </a:prstGeom>
          <a:solidFill>
            <a:srgbClr val="ffcc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508720" y="981000"/>
            <a:ext cx="215640" cy="217440"/>
          </a:xfrm>
          <a:prstGeom prst="rect">
            <a:avLst/>
          </a:prstGeom>
          <a:solidFill>
            <a:srgbClr val="ff66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524720" y="982800"/>
            <a:ext cx="216000" cy="215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286880" y="9079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16365"/>
                </a:solidFill>
                <a:latin typeface="Arial"/>
              </a:rPr>
              <a:t>Italia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727240" y="9079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16365"/>
                </a:solidFill>
                <a:latin typeface="Arial"/>
              </a:rPr>
              <a:t>Technofan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742880" y="9079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16365"/>
                </a:solidFill>
                <a:latin typeface="Arial"/>
              </a:rPr>
              <a:t>Eclettici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-324000" y="-33480"/>
            <a:ext cx="9144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82d1"/>
                </a:solidFill>
                <a:latin typeface="Arial"/>
              </a:rPr>
              <a:t>L’e-book</a:t>
            </a: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0" y="476280"/>
            <a:ext cx="9144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82d1"/>
                </a:solidFill>
                <a:latin typeface="Arial"/>
              </a:rPr>
              <a:t>Leggerebbe sullo schermo di un...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-36360" y="2333520"/>
            <a:ext cx="22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c41402"/>
                </a:solidFill>
                <a:latin typeface="Arial"/>
              </a:rPr>
              <a:t>Un libro di studio/lavoro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6360" y="4781520"/>
            <a:ext cx="194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c41402"/>
                </a:solidFill>
                <a:latin typeface="Arial"/>
              </a:rPr>
              <a:t>Un libro di svago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154560" y="5877000"/>
            <a:ext cx="25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Century Gothic"/>
              </a:rPr>
              <a:t>Base: User cellulare 45 mil.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195640" y="5877000"/>
            <a:ext cx="28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Century Gothic"/>
              </a:rPr>
              <a:t>Base: User computer 29 mil.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290760" y="2454120"/>
            <a:ext cx="1341720" cy="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290760" y="2463840"/>
            <a:ext cx="1341720" cy="11160"/>
          </a:xfrm>
          <a:prstGeom prst="rect">
            <a:avLst/>
          </a:prstGeom>
          <a:solidFill>
            <a:srgbClr val="ffc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290760" y="2475000"/>
            <a:ext cx="1341720" cy="9360"/>
          </a:xfrm>
          <a:prstGeom prst="rect">
            <a:avLst/>
          </a:prstGeom>
          <a:solidFill>
            <a:srgbClr val="ffc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290760" y="2484360"/>
            <a:ext cx="1341720" cy="31680"/>
          </a:xfrm>
          <a:prstGeom prst="rect">
            <a:avLst/>
          </a:prstGeom>
          <a:solidFill>
            <a:srgbClr val="ffc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290760" y="2516040"/>
            <a:ext cx="1341720" cy="9720"/>
          </a:xfrm>
          <a:prstGeom prst="rect">
            <a:avLst/>
          </a:prstGeom>
          <a:solidFill>
            <a:srgbClr val="ffc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290760" y="2525760"/>
            <a:ext cx="1341720" cy="11160"/>
          </a:xfrm>
          <a:prstGeom prst="rect">
            <a:avLst/>
          </a:prstGeom>
          <a:solidFill>
            <a:srgbClr val="ffcc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290760" y="2536920"/>
            <a:ext cx="1341720" cy="9360"/>
          </a:xfrm>
          <a:prstGeom prst="rect">
            <a:avLst/>
          </a:prstGeom>
          <a:solidFill>
            <a:srgbClr val="ffcd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290760" y="2546280"/>
            <a:ext cx="1341720" cy="11160"/>
          </a:xfrm>
          <a:prstGeom prst="rect">
            <a:avLst/>
          </a:prstGeom>
          <a:solidFill>
            <a:srgbClr val="ffc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90760" y="2557440"/>
            <a:ext cx="1341720" cy="9720"/>
          </a:xfrm>
          <a:prstGeom prst="rect">
            <a:avLst/>
          </a:prstGeom>
          <a:solidFill>
            <a:srgbClr val="ffcd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90760" y="2567160"/>
            <a:ext cx="1341720" cy="10800"/>
          </a:xfrm>
          <a:prstGeom prst="rect">
            <a:avLst/>
          </a:prstGeom>
          <a:solidFill>
            <a:srgbClr val="ffcd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290760" y="2577960"/>
            <a:ext cx="1341720" cy="9720"/>
          </a:xfrm>
          <a:prstGeom prst="rect">
            <a:avLst/>
          </a:prstGeom>
          <a:solidFill>
            <a:srgbClr val="ffcd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290760" y="2587680"/>
            <a:ext cx="1341720" cy="11160"/>
          </a:xfrm>
          <a:prstGeom prst="rect">
            <a:avLst/>
          </a:prstGeom>
          <a:solidFill>
            <a:srgbClr val="ffcd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290760" y="2598840"/>
            <a:ext cx="1341720" cy="9360"/>
          </a:xfrm>
          <a:prstGeom prst="rect">
            <a:avLst/>
          </a:prstGeom>
          <a:solidFill>
            <a:srgbClr val="ffcd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290760" y="2608200"/>
            <a:ext cx="1341720" cy="20880"/>
          </a:xfrm>
          <a:prstGeom prst="rect">
            <a:avLst/>
          </a:prstGeom>
          <a:solidFill>
            <a:srgbClr val="ffc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90760" y="2629080"/>
            <a:ext cx="1341720" cy="10800"/>
          </a:xfrm>
          <a:prstGeom prst="rect">
            <a:avLst/>
          </a:prstGeom>
          <a:solidFill>
            <a:srgbClr val="ffce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90760" y="2639880"/>
            <a:ext cx="1341720" cy="9720"/>
          </a:xfrm>
          <a:prstGeom prst="rect">
            <a:avLst/>
          </a:prstGeom>
          <a:solidFill>
            <a:srgbClr val="ffce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290760" y="2649600"/>
            <a:ext cx="1341720" cy="11160"/>
          </a:xfrm>
          <a:prstGeom prst="rect">
            <a:avLst/>
          </a:prstGeom>
          <a:solidFill>
            <a:srgbClr val="ffc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290760" y="2660760"/>
            <a:ext cx="1341720" cy="9360"/>
          </a:xfrm>
          <a:prstGeom prst="rect">
            <a:avLst/>
          </a:prstGeom>
          <a:solidFill>
            <a:srgbClr val="ffce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290760" y="2670120"/>
            <a:ext cx="1341720" cy="11160"/>
          </a:xfrm>
          <a:prstGeom prst="rect">
            <a:avLst/>
          </a:prstGeom>
          <a:solidFill>
            <a:srgbClr val="ffc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290760" y="2681280"/>
            <a:ext cx="1341720" cy="9360"/>
          </a:xfrm>
          <a:prstGeom prst="rect">
            <a:avLst/>
          </a:prstGeom>
          <a:solidFill>
            <a:srgbClr val="ffc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290760" y="2690640"/>
            <a:ext cx="1341720" cy="11160"/>
          </a:xfrm>
          <a:prstGeom prst="rect">
            <a:avLst/>
          </a:prstGeom>
          <a:solidFill>
            <a:srgbClr val="ffc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90760" y="2701800"/>
            <a:ext cx="1341720" cy="20880"/>
          </a:xfrm>
          <a:prstGeom prst="rect">
            <a:avLst/>
          </a:prstGeom>
          <a:solidFill>
            <a:srgbClr val="ffcf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290760" y="2722680"/>
            <a:ext cx="1341720" cy="9360"/>
          </a:xfrm>
          <a:prstGeom prst="rect">
            <a:avLst/>
          </a:prstGeom>
          <a:solidFill>
            <a:srgbClr val="ffcf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290760" y="2732040"/>
            <a:ext cx="1341720" cy="11160"/>
          </a:xfrm>
          <a:prstGeom prst="rect">
            <a:avLst/>
          </a:prstGeom>
          <a:solidFill>
            <a:srgbClr val="ffcf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290760" y="2743200"/>
            <a:ext cx="1341720" cy="9360"/>
          </a:xfrm>
          <a:prstGeom prst="rect">
            <a:avLst/>
          </a:prstGeom>
          <a:solidFill>
            <a:srgbClr val="ff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290760" y="2752560"/>
            <a:ext cx="1341720" cy="11160"/>
          </a:xfrm>
          <a:prstGeom prst="rect">
            <a:avLst/>
          </a:prstGeom>
          <a:solidFill>
            <a:srgbClr val="ffd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290760" y="2763720"/>
            <a:ext cx="1341720" cy="9720"/>
          </a:xfrm>
          <a:prstGeom prst="rect">
            <a:avLst/>
          </a:prstGeom>
          <a:solidFill>
            <a:srgbClr val="ff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290760" y="2773440"/>
            <a:ext cx="1341720" cy="11160"/>
          </a:xfrm>
          <a:prstGeom prst="rect">
            <a:avLst/>
          </a:prstGeom>
          <a:solidFill>
            <a:srgbClr val="ffd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290760" y="2784600"/>
            <a:ext cx="1341720" cy="9360"/>
          </a:xfrm>
          <a:prstGeom prst="rect">
            <a:avLst/>
          </a:prstGeom>
          <a:solidFill>
            <a:srgbClr val="ffd1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290760" y="2793960"/>
            <a:ext cx="1341720" cy="11160"/>
          </a:xfrm>
          <a:prstGeom prst="rect">
            <a:avLst/>
          </a:prstGeom>
          <a:solidFill>
            <a:srgbClr val="ffd1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290760" y="2805120"/>
            <a:ext cx="1341720" cy="9360"/>
          </a:xfrm>
          <a:prstGeom prst="rect">
            <a:avLst/>
          </a:prstGeom>
          <a:solidFill>
            <a:srgbClr val="ffd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290760" y="2814480"/>
            <a:ext cx="1341720" cy="20880"/>
          </a:xfrm>
          <a:prstGeom prst="rect">
            <a:avLst/>
          </a:prstGeom>
          <a:solidFill>
            <a:srgbClr val="ffd2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290760" y="2835360"/>
            <a:ext cx="1341720" cy="11160"/>
          </a:xfrm>
          <a:prstGeom prst="rect">
            <a:avLst/>
          </a:prstGeom>
          <a:solidFill>
            <a:srgbClr val="ffd2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290760" y="2846520"/>
            <a:ext cx="1341720" cy="9360"/>
          </a:xfrm>
          <a:prstGeom prst="rect">
            <a:avLst/>
          </a:prstGeom>
          <a:solidFill>
            <a:srgbClr val="ffd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290760" y="2855880"/>
            <a:ext cx="1341720" cy="11160"/>
          </a:xfrm>
          <a:prstGeom prst="rect">
            <a:avLst/>
          </a:prstGeom>
          <a:solidFill>
            <a:srgbClr val="ffd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290760" y="2867040"/>
            <a:ext cx="1341720" cy="9360"/>
          </a:xfrm>
          <a:prstGeom prst="rect">
            <a:avLst/>
          </a:prstGeom>
          <a:solidFill>
            <a:srgbClr val="ffd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290760" y="2876400"/>
            <a:ext cx="1341720" cy="11160"/>
          </a:xfrm>
          <a:prstGeom prst="rect">
            <a:avLst/>
          </a:prstGeom>
          <a:solidFill>
            <a:srgbClr val="ffd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290760" y="2887560"/>
            <a:ext cx="1341720" cy="20880"/>
          </a:xfrm>
          <a:prstGeom prst="rect">
            <a:avLst/>
          </a:prstGeom>
          <a:solidFill>
            <a:srgbClr val="ffd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290760" y="2908440"/>
            <a:ext cx="1341720" cy="9360"/>
          </a:xfrm>
          <a:prstGeom prst="rect">
            <a:avLst/>
          </a:prstGeom>
          <a:solidFill>
            <a:srgbClr val="ffd4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290760" y="2917800"/>
            <a:ext cx="1341720" cy="11160"/>
          </a:xfrm>
          <a:prstGeom prst="rect">
            <a:avLst/>
          </a:prstGeom>
          <a:solidFill>
            <a:srgbClr val="ffd5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3290760" y="2928960"/>
            <a:ext cx="1341720" cy="9360"/>
          </a:xfrm>
          <a:prstGeom prst="rect">
            <a:avLst/>
          </a:prstGeom>
          <a:solidFill>
            <a:srgbClr val="ffd5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290760" y="2938320"/>
            <a:ext cx="1341720" cy="11160"/>
          </a:xfrm>
          <a:prstGeom prst="rect">
            <a:avLst/>
          </a:prstGeom>
          <a:solidFill>
            <a:srgbClr val="ffd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290760" y="2949480"/>
            <a:ext cx="1341720" cy="9720"/>
          </a:xfrm>
          <a:prstGeom prst="rect">
            <a:avLst/>
          </a:prstGeom>
          <a:solidFill>
            <a:srgbClr val="ffd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290760" y="2959200"/>
            <a:ext cx="1341720" cy="20520"/>
          </a:xfrm>
          <a:prstGeom prst="rect">
            <a:avLst/>
          </a:prstGeom>
          <a:solidFill>
            <a:srgbClr val="ffd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290760" y="2979720"/>
            <a:ext cx="1341720" cy="11160"/>
          </a:xfrm>
          <a:prstGeom prst="rect">
            <a:avLst/>
          </a:prstGeom>
          <a:solidFill>
            <a:srgbClr val="ffd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290760" y="2990880"/>
            <a:ext cx="1341720" cy="9360"/>
          </a:xfrm>
          <a:prstGeom prst="rect">
            <a:avLst/>
          </a:prstGeom>
          <a:solidFill>
            <a:srgbClr val="ffd7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290760" y="3000240"/>
            <a:ext cx="1341720" cy="11160"/>
          </a:xfrm>
          <a:prstGeom prst="rect">
            <a:avLst/>
          </a:prstGeom>
          <a:solidFill>
            <a:srgbClr val="ffd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290760" y="3011400"/>
            <a:ext cx="1341720" cy="20880"/>
          </a:xfrm>
          <a:prstGeom prst="rect">
            <a:avLst/>
          </a:prstGeom>
          <a:solidFill>
            <a:srgbClr val="ffd7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290760" y="3032280"/>
            <a:ext cx="1341720" cy="9360"/>
          </a:xfrm>
          <a:prstGeom prst="rect">
            <a:avLst/>
          </a:prstGeom>
          <a:solidFill>
            <a:srgbClr val="ff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290760" y="3041640"/>
            <a:ext cx="1341720" cy="11160"/>
          </a:xfrm>
          <a:prstGeom prst="rect">
            <a:avLst/>
          </a:prstGeom>
          <a:solidFill>
            <a:srgbClr val="ffd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290760" y="3052800"/>
            <a:ext cx="1341720" cy="20520"/>
          </a:xfrm>
          <a:prstGeom prst="rect">
            <a:avLst/>
          </a:prstGeom>
          <a:solidFill>
            <a:srgbClr val="ff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290760" y="3073320"/>
            <a:ext cx="1341720" cy="20880"/>
          </a:xfrm>
          <a:prstGeom prst="rect">
            <a:avLst/>
          </a:prstGeom>
          <a:solidFill>
            <a:srgbClr val="ffd9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290760" y="3094200"/>
            <a:ext cx="1341720" cy="29880"/>
          </a:xfrm>
          <a:prstGeom prst="rect">
            <a:avLst/>
          </a:prstGeom>
          <a:solidFill>
            <a:srgbClr val="ffd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290760" y="3124080"/>
            <a:ext cx="1341720" cy="11160"/>
          </a:xfrm>
          <a:prstGeom prst="rect">
            <a:avLst/>
          </a:prstGeom>
          <a:solidFill>
            <a:srgbClr val="ffda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290760" y="3135240"/>
            <a:ext cx="1341720" cy="30240"/>
          </a:xfrm>
          <a:prstGeom prst="rect">
            <a:avLst/>
          </a:prstGeom>
          <a:solidFill>
            <a:srgbClr val="ffda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290760" y="3165480"/>
            <a:ext cx="1341720" cy="31680"/>
          </a:xfrm>
          <a:prstGeom prst="rect">
            <a:avLst/>
          </a:prstGeom>
          <a:solidFill>
            <a:srgbClr val="ffda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290760" y="3197160"/>
            <a:ext cx="1341720" cy="20880"/>
          </a:xfrm>
          <a:prstGeom prst="rect">
            <a:avLst/>
          </a:prstGeom>
          <a:solidFill>
            <a:srgbClr val="ffdb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290760" y="3218040"/>
            <a:ext cx="1341720" cy="50760"/>
          </a:xfrm>
          <a:prstGeom prst="rect">
            <a:avLst/>
          </a:prstGeom>
          <a:solidFill>
            <a:srgbClr val="ffd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290760" y="3268800"/>
            <a:ext cx="1341720" cy="10800"/>
          </a:xfrm>
          <a:prstGeom prst="rect">
            <a:avLst/>
          </a:prstGeom>
          <a:solidFill>
            <a:srgbClr val="ffdb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290760" y="3279600"/>
            <a:ext cx="1341720" cy="61920"/>
          </a:xfrm>
          <a:prstGeom prst="rect">
            <a:avLst/>
          </a:prstGeom>
          <a:solidFill>
            <a:srgbClr val="ffd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290760" y="3341520"/>
            <a:ext cx="1341720" cy="30240"/>
          </a:xfrm>
          <a:prstGeom prst="rect">
            <a:avLst/>
          </a:prstGeom>
          <a:solidFill>
            <a:srgbClr val="ffdc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290760" y="2454120"/>
            <a:ext cx="1341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634080" y="2949480"/>
            <a:ext cx="1341360" cy="9720"/>
          </a:xfrm>
          <a:prstGeom prst="rect">
            <a:avLst/>
          </a:prstGeom>
          <a:solidFill>
            <a:srgbClr val="ffcc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634080" y="2959200"/>
            <a:ext cx="1341360" cy="11160"/>
          </a:xfrm>
          <a:prstGeom prst="rect">
            <a:avLst/>
          </a:prstGeom>
          <a:solidFill>
            <a:srgbClr val="ffc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634080" y="2970360"/>
            <a:ext cx="1341360" cy="9360"/>
          </a:xfrm>
          <a:prstGeom prst="rect">
            <a:avLst/>
          </a:prstGeom>
          <a:solidFill>
            <a:srgbClr val="ffc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634080" y="2979720"/>
            <a:ext cx="1341360" cy="11160"/>
          </a:xfrm>
          <a:prstGeom prst="rect">
            <a:avLst/>
          </a:prstGeom>
          <a:solidFill>
            <a:srgbClr val="ffc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634080" y="2990880"/>
            <a:ext cx="1341360" cy="9360"/>
          </a:xfrm>
          <a:prstGeom prst="rect">
            <a:avLst/>
          </a:prstGeom>
          <a:solidFill>
            <a:srgbClr val="ffc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634080" y="3000240"/>
            <a:ext cx="1341360" cy="11160"/>
          </a:xfrm>
          <a:prstGeom prst="rect">
            <a:avLst/>
          </a:prstGeom>
          <a:solidFill>
            <a:srgbClr val="ffcd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634080" y="3011400"/>
            <a:ext cx="1341360" cy="9720"/>
          </a:xfrm>
          <a:prstGeom prst="rect">
            <a:avLst/>
          </a:prstGeom>
          <a:solidFill>
            <a:srgbClr val="ffcd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634080" y="3021120"/>
            <a:ext cx="1341360" cy="11160"/>
          </a:xfrm>
          <a:prstGeom prst="rect">
            <a:avLst/>
          </a:prstGeom>
          <a:solidFill>
            <a:srgbClr val="ffcd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634080" y="3032280"/>
            <a:ext cx="1341360" cy="9360"/>
          </a:xfrm>
          <a:prstGeom prst="rect">
            <a:avLst/>
          </a:prstGeom>
          <a:solidFill>
            <a:srgbClr val="ffc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634080" y="3041640"/>
            <a:ext cx="1341360" cy="11160"/>
          </a:xfrm>
          <a:prstGeom prst="rect">
            <a:avLst/>
          </a:prstGeom>
          <a:solidFill>
            <a:srgbClr val="ffce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634080" y="3052800"/>
            <a:ext cx="1341360" cy="9360"/>
          </a:xfrm>
          <a:prstGeom prst="rect">
            <a:avLst/>
          </a:prstGeom>
          <a:solidFill>
            <a:srgbClr val="ffc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634080" y="3062160"/>
            <a:ext cx="1341360" cy="11160"/>
          </a:xfrm>
          <a:prstGeom prst="rect">
            <a:avLst/>
          </a:prstGeom>
          <a:solidFill>
            <a:srgbClr val="ffce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634080" y="3073320"/>
            <a:ext cx="1341360" cy="9720"/>
          </a:xfrm>
          <a:prstGeom prst="rect">
            <a:avLst/>
          </a:prstGeom>
          <a:solidFill>
            <a:srgbClr val="ffcf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634080" y="3083040"/>
            <a:ext cx="1341360" cy="11160"/>
          </a:xfrm>
          <a:prstGeom prst="rect">
            <a:avLst/>
          </a:prstGeom>
          <a:solidFill>
            <a:srgbClr val="ffd0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634080" y="3094200"/>
            <a:ext cx="1341360" cy="9360"/>
          </a:xfrm>
          <a:prstGeom prst="rect">
            <a:avLst/>
          </a:prstGeom>
          <a:solidFill>
            <a:srgbClr val="ffd0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634080" y="3103560"/>
            <a:ext cx="1341360" cy="11160"/>
          </a:xfrm>
          <a:prstGeom prst="rect">
            <a:avLst/>
          </a:prstGeom>
          <a:solidFill>
            <a:srgbClr val="ffd1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634080" y="3114720"/>
            <a:ext cx="1341360" cy="9360"/>
          </a:xfrm>
          <a:prstGeom prst="rect">
            <a:avLst/>
          </a:prstGeom>
          <a:solidFill>
            <a:srgbClr val="ffd2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634080" y="3124080"/>
            <a:ext cx="1341360" cy="11160"/>
          </a:xfrm>
          <a:prstGeom prst="rect">
            <a:avLst/>
          </a:prstGeom>
          <a:solidFill>
            <a:srgbClr val="ffd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34080" y="3135240"/>
            <a:ext cx="1341360" cy="9720"/>
          </a:xfrm>
          <a:prstGeom prst="rect">
            <a:avLst/>
          </a:prstGeom>
          <a:solidFill>
            <a:srgbClr val="ffd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34080" y="3144960"/>
            <a:ext cx="1341360" cy="11160"/>
          </a:xfrm>
          <a:prstGeom prst="rect">
            <a:avLst/>
          </a:prstGeom>
          <a:solidFill>
            <a:srgbClr val="ffd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34080" y="3156120"/>
            <a:ext cx="1341360" cy="9360"/>
          </a:xfrm>
          <a:prstGeom prst="rect">
            <a:avLst/>
          </a:prstGeom>
          <a:solidFill>
            <a:srgbClr val="ffd4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34080" y="3165480"/>
            <a:ext cx="1341360" cy="11160"/>
          </a:xfrm>
          <a:prstGeom prst="rect">
            <a:avLst/>
          </a:prstGeom>
          <a:solidFill>
            <a:srgbClr val="ffd5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634080" y="3176640"/>
            <a:ext cx="1341360" cy="9360"/>
          </a:xfrm>
          <a:prstGeom prst="rect">
            <a:avLst/>
          </a:prstGeom>
          <a:solidFill>
            <a:srgbClr val="ffd6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34080" y="3186000"/>
            <a:ext cx="1341360" cy="11160"/>
          </a:xfrm>
          <a:prstGeom prst="rect">
            <a:avLst/>
          </a:prstGeom>
          <a:solidFill>
            <a:srgbClr val="ffd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634080" y="3197160"/>
            <a:ext cx="1341360" cy="9720"/>
          </a:xfrm>
          <a:prstGeom prst="rect">
            <a:avLst/>
          </a:prstGeom>
          <a:solidFill>
            <a:srgbClr val="ffd7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634080" y="3206880"/>
            <a:ext cx="1341360" cy="11160"/>
          </a:xfrm>
          <a:prstGeom prst="rect">
            <a:avLst/>
          </a:prstGeom>
          <a:solidFill>
            <a:srgbClr val="ffd7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634080" y="3218040"/>
            <a:ext cx="1341360" cy="9360"/>
          </a:xfrm>
          <a:prstGeom prst="rect">
            <a:avLst/>
          </a:prstGeom>
          <a:solidFill>
            <a:srgbClr val="ff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34080" y="3227400"/>
            <a:ext cx="1341360" cy="11160"/>
          </a:xfrm>
          <a:prstGeom prst="rect">
            <a:avLst/>
          </a:prstGeom>
          <a:solidFill>
            <a:srgbClr val="ff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634080" y="3238560"/>
            <a:ext cx="1341360" cy="9360"/>
          </a:xfrm>
          <a:prstGeom prst="rect">
            <a:avLst/>
          </a:prstGeom>
          <a:solidFill>
            <a:srgbClr val="ffd9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634080" y="3247920"/>
            <a:ext cx="1341360" cy="11160"/>
          </a:xfrm>
          <a:prstGeom prst="rect">
            <a:avLst/>
          </a:prstGeom>
          <a:solidFill>
            <a:srgbClr val="ffda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634080" y="3259080"/>
            <a:ext cx="1341360" cy="9720"/>
          </a:xfrm>
          <a:prstGeom prst="rect">
            <a:avLst/>
          </a:prstGeom>
          <a:solidFill>
            <a:srgbClr val="ffda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634080" y="3268800"/>
            <a:ext cx="1341360" cy="10800"/>
          </a:xfrm>
          <a:prstGeom prst="rect">
            <a:avLst/>
          </a:prstGeom>
          <a:solidFill>
            <a:srgbClr val="ffda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634080" y="3279600"/>
            <a:ext cx="1341360" cy="9720"/>
          </a:xfrm>
          <a:prstGeom prst="rect">
            <a:avLst/>
          </a:prstGeom>
          <a:solidFill>
            <a:srgbClr val="ffd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634080" y="3289320"/>
            <a:ext cx="1341360" cy="20520"/>
          </a:xfrm>
          <a:prstGeom prst="rect">
            <a:avLst/>
          </a:prstGeom>
          <a:solidFill>
            <a:srgbClr val="ffdb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634080" y="3309840"/>
            <a:ext cx="1341360" cy="20880"/>
          </a:xfrm>
          <a:prstGeom prst="rect">
            <a:avLst/>
          </a:prstGeom>
          <a:solidFill>
            <a:srgbClr val="ffd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634080" y="3330720"/>
            <a:ext cx="1341360" cy="31680"/>
          </a:xfrm>
          <a:prstGeom prst="rect">
            <a:avLst/>
          </a:prstGeom>
          <a:solidFill>
            <a:srgbClr val="ffd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634080" y="3362400"/>
            <a:ext cx="1341360" cy="9360"/>
          </a:xfrm>
          <a:prstGeom prst="rect">
            <a:avLst/>
          </a:prstGeom>
          <a:solidFill>
            <a:srgbClr val="ffdc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634080" y="2949480"/>
            <a:ext cx="1341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90760" y="1989000"/>
            <a:ext cx="1341720" cy="11160"/>
          </a:xfrm>
          <a:prstGeom prst="rect">
            <a:avLst/>
          </a:prstGeom>
          <a:solidFill>
            <a:srgbClr val="ff03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290760" y="2000160"/>
            <a:ext cx="1341720" cy="9720"/>
          </a:xfrm>
          <a:prstGeom prst="rect">
            <a:avLst/>
          </a:prstGeom>
          <a:solidFill>
            <a:srgbClr val="ff0a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290760" y="2009880"/>
            <a:ext cx="1341720" cy="11160"/>
          </a:xfrm>
          <a:prstGeom prst="rect">
            <a:avLst/>
          </a:prstGeom>
          <a:solidFill>
            <a:srgbClr val="ff1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290760" y="2021040"/>
            <a:ext cx="1341720" cy="9360"/>
          </a:xfrm>
          <a:prstGeom prst="rect">
            <a:avLst/>
          </a:prstGeom>
          <a:solidFill>
            <a:srgbClr val="ff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290760" y="2030400"/>
            <a:ext cx="1341720" cy="11160"/>
          </a:xfrm>
          <a:prstGeom prst="rect">
            <a:avLst/>
          </a:prstGeom>
          <a:solidFill>
            <a:srgbClr val="ff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290760" y="2041560"/>
            <a:ext cx="1341720" cy="9360"/>
          </a:xfrm>
          <a:prstGeom prst="rect">
            <a:avLst/>
          </a:prstGeom>
          <a:solidFill>
            <a:srgbClr val="ff1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290760" y="2050920"/>
            <a:ext cx="1341720" cy="11160"/>
          </a:xfrm>
          <a:prstGeom prst="rect">
            <a:avLst/>
          </a:prstGeom>
          <a:solidFill>
            <a:srgbClr val="ff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290760" y="2062080"/>
            <a:ext cx="1341720" cy="9720"/>
          </a:xfrm>
          <a:prstGeom prst="rect">
            <a:avLst/>
          </a:prstGeom>
          <a:solidFill>
            <a:srgbClr val="ff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290760" y="2071800"/>
            <a:ext cx="1341720" cy="11160"/>
          </a:xfrm>
          <a:prstGeom prst="rect">
            <a:avLst/>
          </a:prstGeom>
          <a:solidFill>
            <a:srgbClr val="ff2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290760" y="2082960"/>
            <a:ext cx="1341720" cy="9360"/>
          </a:xfrm>
          <a:prstGeom prst="rect">
            <a:avLst/>
          </a:prstGeom>
          <a:solidFill>
            <a:srgbClr val="ff2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290760" y="2092320"/>
            <a:ext cx="1341720" cy="11160"/>
          </a:xfrm>
          <a:prstGeom prst="rect">
            <a:avLst/>
          </a:prstGeom>
          <a:solidFill>
            <a:srgbClr val="ff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290760" y="2103480"/>
            <a:ext cx="1341720" cy="9360"/>
          </a:xfrm>
          <a:prstGeom prst="rect">
            <a:avLst/>
          </a:prstGeom>
          <a:solidFill>
            <a:srgbClr val="ff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290760" y="2112840"/>
            <a:ext cx="1341720" cy="11160"/>
          </a:xfrm>
          <a:prstGeom prst="rect">
            <a:avLst/>
          </a:prstGeom>
          <a:solidFill>
            <a:srgbClr val="ff3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290760" y="2124000"/>
            <a:ext cx="1341720" cy="9720"/>
          </a:xfrm>
          <a:prstGeom prst="rect">
            <a:avLst/>
          </a:prstGeom>
          <a:solidFill>
            <a:srgbClr val="ff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290760" y="2133720"/>
            <a:ext cx="1341720" cy="11160"/>
          </a:xfrm>
          <a:prstGeom prst="rect">
            <a:avLst/>
          </a:prstGeom>
          <a:solidFill>
            <a:srgbClr val="ff3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290760" y="2144880"/>
            <a:ext cx="1341720" cy="9360"/>
          </a:xfrm>
          <a:prstGeom prst="rect">
            <a:avLst/>
          </a:prstGeom>
          <a:solidFill>
            <a:srgbClr val="f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290760" y="2154240"/>
            <a:ext cx="1341720" cy="11160"/>
          </a:xfrm>
          <a:prstGeom prst="rect">
            <a:avLst/>
          </a:prstGeom>
          <a:solidFill>
            <a:srgbClr val="ff43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290760" y="2165400"/>
            <a:ext cx="1341720" cy="9360"/>
          </a:xfrm>
          <a:prstGeom prst="rect">
            <a:avLst/>
          </a:prstGeom>
          <a:solidFill>
            <a:srgbClr val="ff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3290760" y="2174760"/>
            <a:ext cx="1341720" cy="11160"/>
          </a:xfrm>
          <a:prstGeom prst="rect">
            <a:avLst/>
          </a:prstGeom>
          <a:solidFill>
            <a:srgbClr val="ff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290760" y="2185920"/>
            <a:ext cx="1341720" cy="9720"/>
          </a:xfrm>
          <a:prstGeom prst="rect">
            <a:avLst/>
          </a:prstGeom>
          <a:solidFill>
            <a:srgbClr val="ff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290760" y="2195640"/>
            <a:ext cx="1341720" cy="11160"/>
          </a:xfrm>
          <a:prstGeom prst="rect">
            <a:avLst/>
          </a:pr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290760" y="2206800"/>
            <a:ext cx="1341720" cy="9360"/>
          </a:xfrm>
          <a:prstGeom prst="rect">
            <a:avLst/>
          </a:prstGeom>
          <a:solidFill>
            <a:srgbClr val="ff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290760" y="2216160"/>
            <a:ext cx="1341720" cy="11160"/>
          </a:xfrm>
          <a:prstGeom prst="rect">
            <a:avLst/>
          </a:prstGeom>
          <a:solidFill>
            <a:srgbClr val="ff55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290760" y="2227320"/>
            <a:ext cx="1341720" cy="9360"/>
          </a:xfrm>
          <a:prstGeom prst="rect">
            <a:avLst/>
          </a:prstGeom>
          <a:solidFill>
            <a:srgbClr val="ff5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290760" y="2236680"/>
            <a:ext cx="1341720" cy="11160"/>
          </a:xfrm>
          <a:prstGeom prst="rect">
            <a:avLst/>
          </a:prstGeom>
          <a:solidFill>
            <a:srgbClr val="ff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290760" y="2247840"/>
            <a:ext cx="1341720" cy="9720"/>
          </a:xfrm>
          <a:prstGeom prst="rect">
            <a:avLst/>
          </a:prstGeom>
          <a:solidFill>
            <a:srgbClr val="ff5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290760" y="2257560"/>
            <a:ext cx="1341720" cy="10800"/>
          </a:xfrm>
          <a:prstGeom prst="rect">
            <a:avLst/>
          </a:prstGeom>
          <a:solidFill>
            <a:srgbClr val="ff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290760" y="2268360"/>
            <a:ext cx="1341720" cy="9720"/>
          </a:xfrm>
          <a:prstGeom prst="rect">
            <a:avLst/>
          </a:prstGeom>
          <a:solidFill>
            <a:srgbClr val="ff62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290760" y="2278080"/>
            <a:ext cx="1341720" cy="11160"/>
          </a:xfrm>
          <a:prstGeom prst="rect">
            <a:avLst/>
          </a:prstGeom>
          <a:solidFill>
            <a:srgbClr val="ff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290760" y="2289240"/>
            <a:ext cx="1341720" cy="9360"/>
          </a:xfrm>
          <a:prstGeom prst="rect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290760" y="2298600"/>
            <a:ext cx="1341720" cy="11160"/>
          </a:xfrm>
          <a:prstGeom prst="rect">
            <a:avLst/>
          </a:prstGeom>
          <a:solidFill>
            <a:srgbClr val="ff6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90760" y="2309760"/>
            <a:ext cx="1341720" cy="9720"/>
          </a:xfrm>
          <a:prstGeom prst="rect">
            <a:avLst/>
          </a:prstGeom>
          <a:solidFill>
            <a:srgbClr val="ff6a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290760" y="2319480"/>
            <a:ext cx="1341720" cy="10800"/>
          </a:xfrm>
          <a:prstGeom prst="rect">
            <a:avLst/>
          </a:prstGeom>
          <a:solidFill>
            <a:srgbClr val="ff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290760" y="2330280"/>
            <a:ext cx="1341720" cy="9720"/>
          </a:xfrm>
          <a:prstGeom prst="rect">
            <a:avLst/>
          </a:prstGeom>
          <a:solidFill>
            <a:srgbClr val="ff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290760" y="2340000"/>
            <a:ext cx="1341720" cy="11160"/>
          </a:xfrm>
          <a:prstGeom prst="rect">
            <a:avLst/>
          </a:prstGeom>
          <a:solidFill>
            <a:srgbClr val="ff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290760" y="2351160"/>
            <a:ext cx="1341720" cy="9360"/>
          </a:xfrm>
          <a:prstGeom prst="rect">
            <a:avLst/>
          </a:prstGeom>
          <a:solidFill>
            <a:srgbClr val="f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290760" y="2360520"/>
            <a:ext cx="1341720" cy="11160"/>
          </a:xfrm>
          <a:prstGeom prst="rect">
            <a:avLst/>
          </a:prstGeom>
          <a:solidFill>
            <a:srgbClr val="ff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290760" y="2371680"/>
            <a:ext cx="1341720" cy="9720"/>
          </a:xfrm>
          <a:prstGeom prst="rect">
            <a:avLst/>
          </a:prstGeom>
          <a:solidFill>
            <a:srgbClr val="ff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90760" y="2381400"/>
            <a:ext cx="1341720" cy="10800"/>
          </a:xfrm>
          <a:prstGeom prst="rect">
            <a:avLst/>
          </a:prstGeom>
          <a:solidFill>
            <a:srgbClr val="ff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290760" y="2392200"/>
            <a:ext cx="1341720" cy="20880"/>
          </a:xfrm>
          <a:prstGeom prst="rect">
            <a:avLst/>
          </a:prstGeom>
          <a:solidFill>
            <a:srgbClr val="ff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290760" y="2413080"/>
            <a:ext cx="1341720" cy="30240"/>
          </a:xfrm>
          <a:prstGeom prst="rect">
            <a:avLst/>
          </a:prstGeom>
          <a:solidFill>
            <a:srgbClr val="ff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290760" y="2443320"/>
            <a:ext cx="1341720" cy="10800"/>
          </a:xfrm>
          <a:prstGeom prst="rect">
            <a:avLst/>
          </a:pr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290760" y="1989000"/>
            <a:ext cx="1341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634080" y="2814480"/>
            <a:ext cx="1341360" cy="11160"/>
          </a:xfrm>
          <a:prstGeom prst="rect">
            <a:avLst/>
          </a:prstGeom>
          <a:solidFill>
            <a:srgbClr val="ff0b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634080" y="2825640"/>
            <a:ext cx="1341360" cy="9720"/>
          </a:xfrm>
          <a:prstGeom prst="rect">
            <a:avLst/>
          </a:prstGeom>
          <a:solidFill>
            <a:srgbClr val="ff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34080" y="2835360"/>
            <a:ext cx="1341360" cy="11160"/>
          </a:xfrm>
          <a:prstGeom prst="rect">
            <a:avLst/>
          </a:prstGeom>
          <a:solidFill>
            <a:srgbClr val="ff2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634080" y="2846520"/>
            <a:ext cx="1341360" cy="936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634080" y="2855880"/>
            <a:ext cx="1341360" cy="11160"/>
          </a:xfrm>
          <a:prstGeom prst="rect">
            <a:avLst/>
          </a:prstGeom>
          <a:solidFill>
            <a:srgbClr val="f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634080" y="2867040"/>
            <a:ext cx="1341360" cy="9360"/>
          </a:xfrm>
          <a:prstGeom prst="rect">
            <a:avLst/>
          </a:prstGeom>
          <a:solidFill>
            <a:srgbClr val="ff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634080" y="2876400"/>
            <a:ext cx="1341360" cy="11160"/>
          </a:xfrm>
          <a:prstGeom prst="rect">
            <a:avLst/>
          </a:prstGeom>
          <a:solidFill>
            <a:srgbClr val="ff55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634080" y="2887560"/>
            <a:ext cx="1341360" cy="9720"/>
          </a:xfrm>
          <a:prstGeom prst="rect">
            <a:avLst/>
          </a:prstGeom>
          <a:solidFill>
            <a:srgbClr val="ff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634080" y="2897280"/>
            <a:ext cx="1341360" cy="11160"/>
          </a:xfrm>
          <a:prstGeom prst="rect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634080" y="2908440"/>
            <a:ext cx="1341360" cy="9360"/>
          </a:xfrm>
          <a:prstGeom prst="rect">
            <a:avLst/>
          </a:prstGeom>
          <a:solidFill>
            <a:srgbClr val="ff6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6634080" y="2917800"/>
            <a:ext cx="1341360" cy="11160"/>
          </a:xfrm>
          <a:prstGeom prst="rect">
            <a:avLst/>
          </a:prstGeom>
          <a:solidFill>
            <a:srgbClr val="ff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634080" y="2928960"/>
            <a:ext cx="1341360" cy="9360"/>
          </a:xfrm>
          <a:prstGeom prst="rect">
            <a:avLst/>
          </a:prstGeom>
          <a:solidFill>
            <a:srgbClr val="ff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34080" y="2938320"/>
            <a:ext cx="1341360" cy="11160"/>
          </a:xfrm>
          <a:prstGeom prst="rect">
            <a:avLst/>
          </a:prstGeom>
          <a:solidFill>
            <a:srgbClr val="ff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634080" y="2814480"/>
            <a:ext cx="134136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289240" y="3371760"/>
            <a:ext cx="6688080" cy="0"/>
          </a:xfrm>
          <a:prstGeom prst="line">
            <a:avLst/>
          </a:prstGeom>
          <a:ln w="111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289240" y="3371400"/>
            <a:ext cx="0" cy="41400"/>
          </a:xfrm>
          <a:prstGeom prst="line">
            <a:avLst/>
          </a:prstGeom>
          <a:ln w="111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5634000" y="3371400"/>
            <a:ext cx="0" cy="41400"/>
          </a:xfrm>
          <a:prstGeom prst="line">
            <a:avLst/>
          </a:prstGeom>
          <a:ln w="111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8977320" y="3371400"/>
            <a:ext cx="0" cy="41400"/>
          </a:xfrm>
          <a:prstGeom prst="line">
            <a:avLst/>
          </a:prstGeom>
          <a:ln w="111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850560" y="28098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365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850560" y="21178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365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235280" y="29908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365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7314480" y="2516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365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7017480" y="3500280"/>
            <a:ext cx="62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cellulare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787480" y="1042920"/>
            <a:ext cx="103320" cy="1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290760" y="4869000"/>
            <a:ext cx="1341720" cy="10800"/>
          </a:xfrm>
          <a:prstGeom prst="rect">
            <a:avLst/>
          </a:prstGeom>
          <a:solidFill>
            <a:srgbClr val="ffcc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290760" y="4879800"/>
            <a:ext cx="1341720" cy="9720"/>
          </a:xfrm>
          <a:prstGeom prst="rect">
            <a:avLst/>
          </a:prstGeom>
          <a:solidFill>
            <a:srgbClr val="ffcc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290760" y="4889520"/>
            <a:ext cx="1341720" cy="11160"/>
          </a:xfrm>
          <a:prstGeom prst="rect">
            <a:avLst/>
          </a:prstGeom>
          <a:solidFill>
            <a:srgbClr val="ffcc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290760" y="4900680"/>
            <a:ext cx="1341720" cy="9360"/>
          </a:xfrm>
          <a:prstGeom prst="rect">
            <a:avLst/>
          </a:prstGeom>
          <a:solidFill>
            <a:srgbClr val="ffc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290760" y="4910040"/>
            <a:ext cx="1341720" cy="11160"/>
          </a:xfrm>
          <a:prstGeom prst="rect">
            <a:avLst/>
          </a:prstGeom>
          <a:solidFill>
            <a:srgbClr val="ffcc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290760" y="4921200"/>
            <a:ext cx="1341720" cy="9720"/>
          </a:xfrm>
          <a:prstGeom prst="rect">
            <a:avLst/>
          </a:prstGeom>
          <a:solidFill>
            <a:srgbClr val="ffcd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290760" y="4930920"/>
            <a:ext cx="1341720" cy="10800"/>
          </a:xfrm>
          <a:prstGeom prst="rect">
            <a:avLst/>
          </a:prstGeom>
          <a:solidFill>
            <a:srgbClr val="ffc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290760" y="4941720"/>
            <a:ext cx="1341720" cy="9720"/>
          </a:xfrm>
          <a:prstGeom prst="rect">
            <a:avLst/>
          </a:prstGeom>
          <a:solidFill>
            <a:srgbClr val="ffc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290760" y="4951440"/>
            <a:ext cx="1341720" cy="11160"/>
          </a:xfrm>
          <a:prstGeom prst="rect">
            <a:avLst/>
          </a:prstGeom>
          <a:solidFill>
            <a:srgbClr val="ffcd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290760" y="4962600"/>
            <a:ext cx="1341720" cy="9360"/>
          </a:xfrm>
          <a:prstGeom prst="rect">
            <a:avLst/>
          </a:prstGeom>
          <a:solidFill>
            <a:srgbClr val="ffcd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290760" y="4971960"/>
            <a:ext cx="1341720" cy="11160"/>
          </a:xfrm>
          <a:prstGeom prst="rect">
            <a:avLst/>
          </a:prstGeom>
          <a:solidFill>
            <a:srgbClr val="ffc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290760" y="4983120"/>
            <a:ext cx="1341720" cy="9720"/>
          </a:xfrm>
          <a:prstGeom prst="rect">
            <a:avLst/>
          </a:prstGeom>
          <a:solidFill>
            <a:srgbClr val="ffc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290760" y="4992840"/>
            <a:ext cx="1341720" cy="10800"/>
          </a:xfrm>
          <a:prstGeom prst="rect">
            <a:avLst/>
          </a:prstGeom>
          <a:solidFill>
            <a:srgbClr val="ffce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290760" y="5003640"/>
            <a:ext cx="1341720" cy="9720"/>
          </a:xfrm>
          <a:prstGeom prst="rect">
            <a:avLst/>
          </a:prstGeom>
          <a:solidFill>
            <a:srgbClr val="ffce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290760" y="5013360"/>
            <a:ext cx="1341720" cy="11160"/>
          </a:xfrm>
          <a:prstGeom prst="rect">
            <a:avLst/>
          </a:prstGeom>
          <a:solidFill>
            <a:srgbClr val="ffce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290760" y="5024520"/>
            <a:ext cx="1341720" cy="9360"/>
          </a:xfrm>
          <a:prstGeom prst="rect">
            <a:avLst/>
          </a:prstGeom>
          <a:solidFill>
            <a:srgbClr val="ffcf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290760" y="5033880"/>
            <a:ext cx="1341720" cy="11160"/>
          </a:xfrm>
          <a:prstGeom prst="rect">
            <a:avLst/>
          </a:prstGeom>
          <a:solidFill>
            <a:srgbClr val="ffcf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290760" y="5045040"/>
            <a:ext cx="1341720" cy="9720"/>
          </a:xfrm>
          <a:prstGeom prst="rect">
            <a:avLst/>
          </a:prstGeom>
          <a:solidFill>
            <a:srgbClr val="ffc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3290760" y="5054760"/>
            <a:ext cx="1341720" cy="10800"/>
          </a:xfrm>
          <a:prstGeom prst="rect">
            <a:avLst/>
          </a:prstGeom>
          <a:solidFill>
            <a:srgbClr val="ff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3290760" y="5065560"/>
            <a:ext cx="1341720" cy="9720"/>
          </a:xfrm>
          <a:prstGeom prst="rect">
            <a:avLst/>
          </a:prstGeom>
          <a:solidFill>
            <a:srgbClr val="ffd1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3290760" y="5075280"/>
            <a:ext cx="1341720" cy="11160"/>
          </a:xfrm>
          <a:prstGeom prst="rect">
            <a:avLst/>
          </a:prstGeom>
          <a:solidFill>
            <a:srgbClr val="ffd1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290760" y="5086440"/>
            <a:ext cx="1341720" cy="9360"/>
          </a:xfrm>
          <a:prstGeom prst="rect">
            <a:avLst/>
          </a:prstGeom>
          <a:solidFill>
            <a:srgbClr val="ffd2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290760" y="5095800"/>
            <a:ext cx="1341720" cy="11160"/>
          </a:xfrm>
          <a:prstGeom prst="rect">
            <a:avLst/>
          </a:prstGeom>
          <a:solidFill>
            <a:srgbClr val="ffd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290760" y="5106960"/>
            <a:ext cx="1341720" cy="9720"/>
          </a:xfrm>
          <a:prstGeom prst="rect">
            <a:avLst/>
          </a:prstGeom>
          <a:solidFill>
            <a:srgbClr val="ffd3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3290760" y="5116680"/>
            <a:ext cx="1341720" cy="10800"/>
          </a:xfrm>
          <a:prstGeom prst="rect">
            <a:avLst/>
          </a:prstGeom>
          <a:solidFill>
            <a:srgbClr val="ffd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290760" y="5127480"/>
            <a:ext cx="1341720" cy="9720"/>
          </a:xfrm>
          <a:prstGeom prst="rect">
            <a:avLst/>
          </a:prstGeom>
          <a:solidFill>
            <a:srgbClr val="ffd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290760" y="5137200"/>
            <a:ext cx="1341720" cy="11160"/>
          </a:xfrm>
          <a:prstGeom prst="rect">
            <a:avLst/>
          </a:prstGeom>
          <a:solidFill>
            <a:srgbClr val="ffd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290760" y="5148360"/>
            <a:ext cx="1341720" cy="9360"/>
          </a:xfrm>
          <a:prstGeom prst="rect">
            <a:avLst/>
          </a:prstGeom>
          <a:solidFill>
            <a:srgbClr val="ffd4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290760" y="5157720"/>
            <a:ext cx="1341720" cy="11160"/>
          </a:xfrm>
          <a:prstGeom prst="rect">
            <a:avLst/>
          </a:prstGeom>
          <a:solidFill>
            <a:srgbClr val="ffd5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290760" y="5168880"/>
            <a:ext cx="1341720" cy="9720"/>
          </a:xfrm>
          <a:prstGeom prst="rect">
            <a:avLst/>
          </a:prstGeom>
          <a:solidFill>
            <a:srgbClr val="ffd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3290760" y="5178600"/>
            <a:ext cx="1341720" cy="10800"/>
          </a:xfrm>
          <a:prstGeom prst="rect">
            <a:avLst/>
          </a:prstGeom>
          <a:solidFill>
            <a:srgbClr val="ffd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290760" y="5189400"/>
            <a:ext cx="1341720" cy="9720"/>
          </a:xfrm>
          <a:prstGeom prst="rect">
            <a:avLst/>
          </a:prstGeom>
          <a:solidFill>
            <a:srgbClr val="ffd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290760" y="5199120"/>
            <a:ext cx="1341720" cy="11160"/>
          </a:xfrm>
          <a:prstGeom prst="rect">
            <a:avLst/>
          </a:prstGeom>
          <a:solidFill>
            <a:srgbClr val="ffd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290760" y="5210280"/>
            <a:ext cx="1341720" cy="9360"/>
          </a:xfrm>
          <a:prstGeom prst="rect">
            <a:avLst/>
          </a:prstGeom>
          <a:solidFill>
            <a:srgbClr val="ffd7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290760" y="5219640"/>
            <a:ext cx="1341720" cy="11160"/>
          </a:xfrm>
          <a:prstGeom prst="rect">
            <a:avLst/>
          </a:prstGeom>
          <a:solidFill>
            <a:srgbClr val="ffd7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290760" y="5230800"/>
            <a:ext cx="1341720" cy="9360"/>
          </a:xfrm>
          <a:prstGeom prst="rect">
            <a:avLst/>
          </a:prstGeom>
          <a:solidFill>
            <a:srgbClr val="ffd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290760" y="5240160"/>
            <a:ext cx="1341720" cy="11160"/>
          </a:xfrm>
          <a:prstGeom prst="rect">
            <a:avLst/>
          </a:prstGeom>
          <a:solidFill>
            <a:srgbClr val="ffd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290760" y="5251320"/>
            <a:ext cx="1341720" cy="9720"/>
          </a:xfrm>
          <a:prstGeom prst="rect">
            <a:avLst/>
          </a:prstGeom>
          <a:solidFill>
            <a:srgbClr val="ffd9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290760" y="5261040"/>
            <a:ext cx="1341720" cy="11160"/>
          </a:xfrm>
          <a:prstGeom prst="rect">
            <a:avLst/>
          </a:prstGeom>
          <a:solidFill>
            <a:srgbClr val="ffd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290760" y="5272200"/>
            <a:ext cx="1341720" cy="9360"/>
          </a:xfrm>
          <a:prstGeom prst="rect">
            <a:avLst/>
          </a:prstGeom>
          <a:solidFill>
            <a:srgbClr val="ffda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290760" y="5281560"/>
            <a:ext cx="1341720" cy="11160"/>
          </a:xfrm>
          <a:prstGeom prst="rect">
            <a:avLst/>
          </a:prstGeom>
          <a:solidFill>
            <a:srgbClr val="ffda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290760" y="5292720"/>
            <a:ext cx="1341720" cy="9360"/>
          </a:xfrm>
          <a:prstGeom prst="rect">
            <a:avLst/>
          </a:prstGeom>
          <a:solidFill>
            <a:srgbClr val="ffda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3290760" y="5302080"/>
            <a:ext cx="1341720" cy="11160"/>
          </a:xfrm>
          <a:prstGeom prst="rect">
            <a:avLst/>
          </a:prstGeom>
          <a:solidFill>
            <a:srgbClr val="ffd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290760" y="5313240"/>
            <a:ext cx="1341720" cy="30240"/>
          </a:xfrm>
          <a:prstGeom prst="rect">
            <a:avLst/>
          </a:prstGeom>
          <a:solidFill>
            <a:srgbClr val="ffdb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290760" y="5343480"/>
            <a:ext cx="1341720" cy="31680"/>
          </a:xfrm>
          <a:prstGeom prst="rect">
            <a:avLst/>
          </a:prstGeom>
          <a:solidFill>
            <a:srgbClr val="ffd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290760" y="5375160"/>
            <a:ext cx="1341720" cy="30240"/>
          </a:xfrm>
          <a:prstGeom prst="rect">
            <a:avLst/>
          </a:prstGeom>
          <a:solidFill>
            <a:srgbClr val="ffd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290760" y="5405400"/>
            <a:ext cx="1341720" cy="22320"/>
          </a:xfrm>
          <a:prstGeom prst="rect">
            <a:avLst/>
          </a:prstGeom>
          <a:solidFill>
            <a:srgbClr val="ffdc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290760" y="4869000"/>
            <a:ext cx="1341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634080" y="5095800"/>
            <a:ext cx="1341360" cy="111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634080" y="5106960"/>
            <a:ext cx="1341360" cy="9720"/>
          </a:xfrm>
          <a:prstGeom prst="rect">
            <a:avLst/>
          </a:prstGeom>
          <a:solidFill>
            <a:srgbClr val="ffcc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634080" y="5116680"/>
            <a:ext cx="1341360" cy="10800"/>
          </a:xfrm>
          <a:prstGeom prst="rect">
            <a:avLst/>
          </a:prstGeom>
          <a:solidFill>
            <a:srgbClr val="ffcc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634080" y="5127480"/>
            <a:ext cx="1341360" cy="9720"/>
          </a:xfrm>
          <a:prstGeom prst="rect">
            <a:avLst/>
          </a:prstGeom>
          <a:solidFill>
            <a:srgbClr val="ffc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6634080" y="5137200"/>
            <a:ext cx="1341360" cy="11160"/>
          </a:xfrm>
          <a:prstGeom prst="rect">
            <a:avLst/>
          </a:prstGeom>
          <a:solidFill>
            <a:srgbClr val="ffc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634080" y="5148360"/>
            <a:ext cx="1341360" cy="9360"/>
          </a:xfrm>
          <a:prstGeom prst="rect">
            <a:avLst/>
          </a:prstGeom>
          <a:solidFill>
            <a:srgbClr val="ffc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6634080" y="5157720"/>
            <a:ext cx="1341360" cy="11160"/>
          </a:xfrm>
          <a:prstGeom prst="rect">
            <a:avLst/>
          </a:prstGeom>
          <a:solidFill>
            <a:srgbClr val="ffc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634080" y="5168880"/>
            <a:ext cx="1341360" cy="9720"/>
          </a:xfrm>
          <a:prstGeom prst="rect">
            <a:avLst/>
          </a:prstGeom>
          <a:solidFill>
            <a:srgbClr val="ffc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634080" y="5178600"/>
            <a:ext cx="1341360" cy="10800"/>
          </a:xfrm>
          <a:prstGeom prst="rect">
            <a:avLst/>
          </a:prstGeom>
          <a:solidFill>
            <a:srgbClr val="ffce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6634080" y="5189400"/>
            <a:ext cx="1341360" cy="9720"/>
          </a:xfrm>
          <a:prstGeom prst="rect">
            <a:avLst/>
          </a:prstGeom>
          <a:solidFill>
            <a:srgbClr val="ffcf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634080" y="5199120"/>
            <a:ext cx="1341360" cy="11160"/>
          </a:xfrm>
          <a:prstGeom prst="rect">
            <a:avLst/>
          </a:prstGeom>
          <a:solidFill>
            <a:srgbClr val="ffd0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634080" y="5210280"/>
            <a:ext cx="1341360" cy="9360"/>
          </a:xfrm>
          <a:prstGeom prst="rect">
            <a:avLst/>
          </a:prstGeom>
          <a:solidFill>
            <a:srgbClr val="ffd1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634080" y="5219640"/>
            <a:ext cx="1341360" cy="11160"/>
          </a:xfrm>
          <a:prstGeom prst="rect">
            <a:avLst/>
          </a:prstGeom>
          <a:solidFill>
            <a:srgbClr val="ffd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634080" y="5230800"/>
            <a:ext cx="1341360" cy="9360"/>
          </a:xfrm>
          <a:prstGeom prst="rect">
            <a:avLst/>
          </a:prstGeom>
          <a:solidFill>
            <a:srgbClr val="ffd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634080" y="5240160"/>
            <a:ext cx="1341360" cy="11160"/>
          </a:xfrm>
          <a:prstGeom prst="rect">
            <a:avLst/>
          </a:prstGeom>
          <a:solidFill>
            <a:srgbClr val="ffd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634080" y="5251320"/>
            <a:ext cx="1341360" cy="9720"/>
          </a:xfrm>
          <a:prstGeom prst="rect">
            <a:avLst/>
          </a:prstGeom>
          <a:solidFill>
            <a:srgbClr val="ffd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634080" y="5261040"/>
            <a:ext cx="1341360" cy="11160"/>
          </a:xfrm>
          <a:prstGeom prst="rect">
            <a:avLst/>
          </a:prstGeom>
          <a:solidFill>
            <a:srgbClr val="ffd5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634080" y="5272200"/>
            <a:ext cx="1341360" cy="9360"/>
          </a:xfrm>
          <a:prstGeom prst="rect">
            <a:avLst/>
          </a:prstGeom>
          <a:solidFill>
            <a:srgbClr val="ffd6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634080" y="5281560"/>
            <a:ext cx="1341360" cy="11160"/>
          </a:xfrm>
          <a:prstGeom prst="rect">
            <a:avLst/>
          </a:prstGeom>
          <a:solidFill>
            <a:srgbClr val="ffd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6634080" y="5292720"/>
            <a:ext cx="1341360" cy="9360"/>
          </a:xfrm>
          <a:prstGeom prst="rect">
            <a:avLst/>
          </a:prstGeom>
          <a:solidFill>
            <a:srgbClr val="ffd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6634080" y="5302080"/>
            <a:ext cx="1341360" cy="11160"/>
          </a:xfrm>
          <a:prstGeom prst="rect">
            <a:avLst/>
          </a:prstGeom>
          <a:solidFill>
            <a:srgbClr val="ff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634080" y="5313240"/>
            <a:ext cx="1341360" cy="9720"/>
          </a:xfrm>
          <a:prstGeom prst="rect">
            <a:avLst/>
          </a:prstGeom>
          <a:solidFill>
            <a:srgbClr val="ffd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634080" y="5322960"/>
            <a:ext cx="1341360" cy="11160"/>
          </a:xfrm>
          <a:prstGeom prst="rect">
            <a:avLst/>
          </a:prstGeom>
          <a:solidFill>
            <a:srgbClr val="ffd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634080" y="5334120"/>
            <a:ext cx="1341360" cy="9360"/>
          </a:xfrm>
          <a:prstGeom prst="rect">
            <a:avLst/>
          </a:prstGeom>
          <a:solidFill>
            <a:srgbClr val="ffda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634080" y="5343480"/>
            <a:ext cx="1341360" cy="11160"/>
          </a:xfrm>
          <a:prstGeom prst="rect">
            <a:avLst/>
          </a:prstGeom>
          <a:solidFill>
            <a:srgbClr val="ffda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634080" y="5354640"/>
            <a:ext cx="1341360" cy="20520"/>
          </a:xfrm>
          <a:prstGeom prst="rect">
            <a:avLst/>
          </a:prstGeom>
          <a:solidFill>
            <a:srgbClr val="ffdb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634080" y="5375160"/>
            <a:ext cx="1341360" cy="20880"/>
          </a:xfrm>
          <a:prstGeom prst="rect">
            <a:avLst/>
          </a:prstGeom>
          <a:solidFill>
            <a:srgbClr val="ffd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634080" y="5396040"/>
            <a:ext cx="1341360" cy="20520"/>
          </a:xfrm>
          <a:prstGeom prst="rect">
            <a:avLst/>
          </a:prstGeom>
          <a:solidFill>
            <a:srgbClr val="ffd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634080" y="5416560"/>
            <a:ext cx="1341360" cy="11160"/>
          </a:xfrm>
          <a:prstGeom prst="rect">
            <a:avLst/>
          </a:prstGeom>
          <a:solidFill>
            <a:srgbClr val="ffdc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634080" y="5095800"/>
            <a:ext cx="1341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290760" y="4673520"/>
            <a:ext cx="1341720" cy="9720"/>
          </a:xfrm>
          <a:prstGeom prst="rect">
            <a:avLst/>
          </a:prstGeom>
          <a:solidFill>
            <a:srgbClr val="ff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290760" y="4683240"/>
            <a:ext cx="1341720" cy="11160"/>
          </a:xfrm>
          <a:prstGeom prst="rect">
            <a:avLst/>
          </a:prstGeom>
          <a:solidFill>
            <a:srgbClr val="ff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290760" y="4694400"/>
            <a:ext cx="1341720" cy="9360"/>
          </a:xfrm>
          <a:prstGeom prst="rect">
            <a:avLst/>
          </a:prstGeom>
          <a:solidFill>
            <a:srgbClr val="ff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290760" y="4703760"/>
            <a:ext cx="1341720" cy="11160"/>
          </a:xfrm>
          <a:prstGeom prst="rect">
            <a:avLst/>
          </a:prstGeom>
          <a:solidFill>
            <a:srgbClr val="ff2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290760" y="4714920"/>
            <a:ext cx="1341720" cy="9360"/>
          </a:xfrm>
          <a:prstGeom prst="rect">
            <a:avLst/>
          </a:prstGeom>
          <a:solidFill>
            <a:srgbClr val="ff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3290760" y="4724280"/>
            <a:ext cx="1341720" cy="11160"/>
          </a:xfrm>
          <a:prstGeom prst="rect">
            <a:avLst/>
          </a:prstGeom>
          <a:solidFill>
            <a:srgbClr val="ff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290760" y="4735440"/>
            <a:ext cx="1341720" cy="9720"/>
          </a:xfrm>
          <a:prstGeom prst="rect">
            <a:avLst/>
          </a:prstGeom>
          <a:solidFill>
            <a:srgbClr val="f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290760" y="4745160"/>
            <a:ext cx="1341720" cy="1116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290760" y="4756320"/>
            <a:ext cx="1341720" cy="9360"/>
          </a:xfrm>
          <a:prstGeom prst="rect">
            <a:avLst/>
          </a:prstGeom>
          <a:solidFill>
            <a:srgbClr val="ff4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290760" y="4765680"/>
            <a:ext cx="1341720" cy="11160"/>
          </a:xfrm>
          <a:prstGeom prst="rect">
            <a:avLst/>
          </a:prstGeom>
          <a:solidFill>
            <a:srgbClr val="ff55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290760" y="4776840"/>
            <a:ext cx="1341720" cy="9360"/>
          </a:xfrm>
          <a:prstGeom prst="rect">
            <a:avLst/>
          </a:prstGeom>
          <a:solidFill>
            <a:srgbClr val="ff5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290760" y="4786200"/>
            <a:ext cx="1341720" cy="11160"/>
          </a:xfrm>
          <a:prstGeom prst="rect">
            <a:avLst/>
          </a:pr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3290760" y="4797360"/>
            <a:ext cx="1341720" cy="9720"/>
          </a:xfrm>
          <a:prstGeom prst="rect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290760" y="4807080"/>
            <a:ext cx="1341720" cy="11160"/>
          </a:xfrm>
          <a:prstGeom prst="rect">
            <a:avLst/>
          </a:prstGeom>
          <a:solidFill>
            <a:srgbClr val="ff6a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290760" y="4818240"/>
            <a:ext cx="1341720" cy="9360"/>
          </a:xfrm>
          <a:prstGeom prst="rect">
            <a:avLst/>
          </a:prstGeom>
          <a:solidFill>
            <a:srgbClr val="ff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290760" y="4827600"/>
            <a:ext cx="1341720" cy="11160"/>
          </a:xfrm>
          <a:prstGeom prst="rect">
            <a:avLst/>
          </a:prstGeom>
          <a:solidFill>
            <a:srgbClr val="ff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290760" y="4838760"/>
            <a:ext cx="1341720" cy="9360"/>
          </a:xfrm>
          <a:prstGeom prst="rect">
            <a:avLst/>
          </a:prstGeom>
          <a:solidFill>
            <a:srgbClr val="ff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290760" y="4848120"/>
            <a:ext cx="1341720" cy="11160"/>
          </a:xfrm>
          <a:prstGeom prst="rect">
            <a:avLst/>
          </a:prstGeom>
          <a:solidFill>
            <a:srgbClr val="ff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290760" y="4859280"/>
            <a:ext cx="1341720" cy="9720"/>
          </a:xfrm>
          <a:prstGeom prst="rect">
            <a:avLst/>
          </a:pr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3290760" y="4673520"/>
            <a:ext cx="1341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634080" y="5033880"/>
            <a:ext cx="1341360" cy="11160"/>
          </a:xfrm>
          <a:prstGeom prst="rect">
            <a:avLst/>
          </a:prstGeom>
          <a:solidFill>
            <a:srgbClr val="ff1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6634080" y="5045040"/>
            <a:ext cx="1341360" cy="9720"/>
          </a:xfrm>
          <a:prstGeom prst="rect">
            <a:avLst/>
          </a:prstGeom>
          <a:solidFill>
            <a:srgbClr val="ff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634080" y="5054760"/>
            <a:ext cx="1341360" cy="10800"/>
          </a:xfrm>
          <a:prstGeom prst="rect">
            <a:avLst/>
          </a:prstGeom>
          <a:solidFill>
            <a:srgbClr val="ff4a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634080" y="5065560"/>
            <a:ext cx="1341360" cy="9720"/>
          </a:xfrm>
          <a:prstGeom prst="rect">
            <a:avLst/>
          </a:prstGeom>
          <a:solidFill>
            <a:srgbClr val="f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634080" y="5075280"/>
            <a:ext cx="1341360" cy="11160"/>
          </a:xfrm>
          <a:prstGeom prst="rect">
            <a:avLst/>
          </a:prstGeom>
          <a:solidFill>
            <a:srgbClr val="ff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6634080" y="5086440"/>
            <a:ext cx="1341360" cy="9360"/>
          </a:xfrm>
          <a:prstGeom prst="rect">
            <a:avLst/>
          </a:prstGeom>
          <a:solidFill>
            <a:srgbClr val="ff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634080" y="5033880"/>
            <a:ext cx="13413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289240" y="5427720"/>
            <a:ext cx="6688080" cy="0"/>
          </a:xfrm>
          <a:prstGeom prst="line">
            <a:avLst/>
          </a:prstGeom>
          <a:ln w="111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2289240" y="5427720"/>
            <a:ext cx="0" cy="41040"/>
          </a:xfrm>
          <a:prstGeom prst="line">
            <a:avLst/>
          </a:prstGeom>
          <a:ln w="111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5634000" y="5427720"/>
            <a:ext cx="0" cy="41040"/>
          </a:xfrm>
          <a:prstGeom prst="line">
            <a:avLst/>
          </a:prstGeom>
          <a:ln w="111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8977320" y="5427720"/>
            <a:ext cx="0" cy="41040"/>
          </a:xfrm>
          <a:prstGeom prst="line">
            <a:avLst/>
          </a:prstGeom>
          <a:ln w="111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3850560" y="50036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365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918960" y="46213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365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7235280" y="50958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365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305120" y="47149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365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363120" y="5551560"/>
            <a:ext cx="137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schermo computer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130160" y="5551560"/>
            <a:ext cx="62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cellulare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274200" y="3500280"/>
            <a:ext cx="137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schermo computer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421080" y="1484280"/>
            <a:ext cx="1079640" cy="410760"/>
          </a:xfrm>
          <a:prstGeom prst="rect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ff"/>
                </a:solidFill>
                <a:latin typeface="Arial"/>
              </a:rPr>
              <a:t>4 milioni di individui</a:t>
            </a:r>
            <a:endParaRPr b="0" lang="en-US" sz="13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3419640" y="4194000"/>
            <a:ext cx="1150920" cy="410760"/>
          </a:xfrm>
          <a:prstGeom prst="rect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ff"/>
                </a:solidFill>
                <a:latin typeface="Arial"/>
              </a:rPr>
              <a:t>1,7 milioni di individui</a:t>
            </a:r>
            <a:endParaRPr b="0" lang="en-US" sz="13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804000" y="1916280"/>
            <a:ext cx="1224000" cy="410760"/>
          </a:xfrm>
          <a:prstGeom prst="rect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ff"/>
                </a:solidFill>
                <a:latin typeface="Arial"/>
              </a:rPr>
              <a:t>1,8 milioni di individui</a:t>
            </a:r>
            <a:endParaRPr b="0" lang="en-US" sz="13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588000" y="4297320"/>
            <a:ext cx="1513080" cy="252360"/>
          </a:xfrm>
          <a:prstGeom prst="rect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ff"/>
                </a:solidFill>
                <a:latin typeface="Arial"/>
              </a:rPr>
              <a:t>9 mila individui</a:t>
            </a:r>
            <a:endParaRPr b="0" lang="en-US" sz="1300" spc="-1" strike="noStrike">
              <a:solidFill>
                <a:srgbClr val="616365"/>
              </a:solidFill>
              <a:latin typeface="Arial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2916360" y="981000"/>
            <a:ext cx="1857240" cy="216000"/>
            <a:chOff x="2916360" y="981000"/>
            <a:chExt cx="1857240" cy="216000"/>
          </a:xfrm>
        </p:grpSpPr>
        <p:sp>
          <p:nvSpPr>
            <p:cNvPr id="1266" name=""/>
            <p:cNvSpPr/>
            <p:nvPr/>
          </p:nvSpPr>
          <p:spPr>
            <a:xfrm>
              <a:off x="3126960" y="981000"/>
              <a:ext cx="164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16365"/>
                  </a:solidFill>
                  <a:latin typeface="Arial"/>
                </a:rPr>
                <a:t>% Probabilmente sì</a:t>
              </a:r>
              <a:endParaRPr b="0" lang="en-US" sz="14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916360" y="1052640"/>
              <a:ext cx="144360" cy="144360"/>
            </a:xfrm>
            <a:prstGeom prst="rect">
              <a:avLst/>
            </a:prstGeom>
            <a:solidFill>
              <a:srgbClr val="eb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6012000" y="984240"/>
            <a:ext cx="1691640" cy="213480"/>
            <a:chOff x="6012000" y="984240"/>
            <a:chExt cx="1691640" cy="213480"/>
          </a:xfrm>
        </p:grpSpPr>
        <p:sp>
          <p:nvSpPr>
            <p:cNvPr id="1269" name=""/>
            <p:cNvSpPr/>
            <p:nvPr/>
          </p:nvSpPr>
          <p:spPr>
            <a:xfrm>
              <a:off x="6224760" y="984240"/>
              <a:ext cx="147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16365"/>
                  </a:solidFill>
                  <a:latin typeface="Arial"/>
                </a:rPr>
                <a:t>% Sicuramente sì</a:t>
              </a:r>
              <a:endParaRPr b="0" lang="en-US" sz="14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012000" y="1052280"/>
              <a:ext cx="144360" cy="144360"/>
            </a:xfrm>
            <a:prstGeom prst="rect">
              <a:avLst/>
            </a:prstGeom>
            <a:solidFill>
              <a:srgbClr val="f740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82d1"/>
                </a:solidFill>
                <a:latin typeface="Arial"/>
              </a:rPr>
              <a:t>Spunti di riflessione conclusivi</a:t>
            </a: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66320" indent="-166320">
              <a:lnSpc>
                <a:spcPct val="80000"/>
              </a:lnSpc>
              <a:spcAft>
                <a:spcPts val="224"/>
              </a:spcAft>
              <a:buClr>
                <a:srgbClr val="009fd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16365"/>
                </a:solidFill>
                <a:latin typeface="Arial"/>
              </a:rPr>
              <a:t>Lo studio della relazione tra nuove tecnologie e fruizione di contenuti evidenzia 2 dinamiche contrapposte: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61600" indent="-230040">
              <a:lnSpc>
                <a:spcPct val="90000"/>
              </a:lnSpc>
              <a:spcAft>
                <a:spcPts val="400"/>
              </a:spcAft>
              <a:buClr>
                <a:srgbClr val="009fda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16365"/>
                </a:solidFill>
                <a:latin typeface="Arial"/>
              </a:rPr>
              <a:t>La prima, positiva, in cui la tecnologia è stimolo/opportunità grazie all’accesso illimitato ad informazioni e contenuti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lvl="1" marL="561600" indent="-230040">
              <a:lnSpc>
                <a:spcPct val="90000"/>
              </a:lnSpc>
              <a:spcAft>
                <a:spcPts val="400"/>
              </a:spcAft>
              <a:buClr>
                <a:srgbClr val="009fda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16365"/>
                </a:solidFill>
                <a:latin typeface="Arial"/>
              </a:rPr>
              <a:t>La seconda, negativa, in cui ai contenuti tradizionali se ne sostituiscono altri a minor valore aggiunto (contenuto usa e getta)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lvl="1" marL="561600" indent="0">
              <a:lnSpc>
                <a:spcPct val="70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marL="166320" indent="-166320">
              <a:lnSpc>
                <a:spcPct val="80000"/>
              </a:lnSpc>
              <a:spcAft>
                <a:spcPts val="224"/>
              </a:spcAft>
              <a:buClr>
                <a:srgbClr val="009fd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16365"/>
                </a:solidFill>
                <a:latin typeface="Arial"/>
              </a:rPr>
              <a:t>In assenza di una progettualità di sistema (scuola, imprese, politica, ecc.) la seconda dinamica tende a prevalere, soprattutto sulle nuove generazioni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marL="166320" indent="0">
              <a:lnSpc>
                <a:spcPct val="80000"/>
              </a:lnSpc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marL="166320" indent="-166320">
              <a:lnSpc>
                <a:spcPct val="80000"/>
              </a:lnSpc>
              <a:spcAft>
                <a:spcPts val="224"/>
              </a:spcAft>
              <a:buClr>
                <a:srgbClr val="009fd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16365"/>
                </a:solidFill>
                <a:latin typeface="Arial"/>
              </a:rPr>
              <a:t>L’impatto depressivo di questo trend sugli acquisti è evidente ma non irreversibile </a:t>
            </a:r>
            <a:r>
              <a:rPr b="0" lang="it-IT" sz="1800" spc="-1" strike="noStrike">
                <a:solidFill>
                  <a:srgbClr val="616365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616365"/>
                </a:solidFill>
                <a:latin typeface="Arial"/>
              </a:rPr>
              <a:t> l’utilizzo delle nuove tecnologie fatto dagli eclettici genera relazioni virtuose per il mercato dei contenuti: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561600" indent="-230040">
              <a:lnSpc>
                <a:spcPct val="70000"/>
              </a:lnSpc>
              <a:spcAft>
                <a:spcPts val="400"/>
              </a:spcAft>
              <a:buClr>
                <a:srgbClr val="009fda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16365"/>
                </a:solidFill>
                <a:latin typeface="Arial"/>
              </a:rPr>
              <a:t>Internet può essere un concorrente sleale (p2p)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lvl="1" marL="561600" indent="-230040">
              <a:lnSpc>
                <a:spcPct val="90000"/>
              </a:lnSpc>
              <a:spcAft>
                <a:spcPts val="400"/>
              </a:spcAft>
              <a:buClr>
                <a:srgbClr val="009fda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16365"/>
                </a:solidFill>
                <a:latin typeface="Arial"/>
              </a:rPr>
              <a:t>Ma anche canale e stimolo all’acquisto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lvl="1" marL="561600" indent="-230040">
              <a:lnSpc>
                <a:spcPct val="90000"/>
              </a:lnSpc>
              <a:spcAft>
                <a:spcPts val="400"/>
              </a:spcAft>
              <a:buClr>
                <a:srgbClr val="009fda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16365"/>
                </a:solidFill>
                <a:latin typeface="Arial"/>
              </a:rPr>
              <a:t>Le nuove piattaforme tecnologiche in gnerale abilitano nuove modalità di fruizione dei contenuti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lvl="1" marL="561600" indent="0">
              <a:lnSpc>
                <a:spcPct val="70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lvl="1" marL="561600" indent="0">
              <a:lnSpc>
                <a:spcPct val="70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marL="166320" indent="-166320">
              <a:lnSpc>
                <a:spcPct val="80000"/>
              </a:lnSpc>
              <a:spcAft>
                <a:spcPts val="224"/>
              </a:spcAft>
              <a:buClr>
                <a:srgbClr val="009fd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16365"/>
                </a:solidFill>
                <a:latin typeface="Arial"/>
              </a:rPr>
              <a:t>Esistono dei segnali deboli in atto che rappresentano delle opportunità per il mercato 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marL="166320" indent="0">
              <a:lnSpc>
                <a:spcPct val="80000"/>
              </a:lnSpc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marL="166320" indent="0">
              <a:lnSpc>
                <a:spcPct val="80000"/>
              </a:lnSpc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2124000" y="1844640"/>
            <a:ext cx="7020000" cy="2521080"/>
          </a:xfrm>
          <a:prstGeom prst="rect">
            <a:avLst/>
          </a:prstGeom>
          <a:solidFill>
            <a:srgbClr val="0082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Grazie per l’attenzione</a:t>
            </a:r>
            <a:endParaRPr b="0" lang="en-US" sz="36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3"/>
          <p:cNvSpPr/>
          <p:nvPr/>
        </p:nvSpPr>
        <p:spPr>
          <a:xfrm>
            <a:off x="971640" y="115920"/>
            <a:ext cx="7918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82d1"/>
                </a:solidFill>
                <a:latin typeface="Arial"/>
              </a:rPr>
              <a:t>Digital Divide in Italia</a:t>
            </a:r>
            <a:endParaRPr b="0" lang="en-US" sz="3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995640" y="6137280"/>
            <a:ext cx="511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Tot. Popolazione con 14 anni o più 2007-2008-2009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47640" y="5950080"/>
            <a:ext cx="71640" cy="0"/>
          </a:xfrm>
          <a:prstGeom prst="line">
            <a:avLst/>
          </a:prstGeom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419640" y="692280"/>
            <a:ext cx="978840" cy="320400"/>
            <a:chOff x="3419640" y="692280"/>
            <a:chExt cx="978840" cy="320400"/>
          </a:xfrm>
        </p:grpSpPr>
        <p:sp>
          <p:nvSpPr>
            <p:cNvPr id="282" name=""/>
            <p:cNvSpPr/>
            <p:nvPr/>
          </p:nvSpPr>
          <p:spPr>
            <a:xfrm>
              <a:off x="3419640" y="772920"/>
              <a:ext cx="179280" cy="178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6280" y="692280"/>
              <a:ext cx="592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16365"/>
                  </a:solidFill>
                  <a:latin typeface="Arial"/>
                </a:rPr>
                <a:t>2007</a:t>
              </a:r>
              <a:endParaRPr b="0" lang="en-US" sz="21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716360" y="692280"/>
            <a:ext cx="978840" cy="320400"/>
            <a:chOff x="4716360" y="692280"/>
            <a:chExt cx="978840" cy="320400"/>
          </a:xfrm>
        </p:grpSpPr>
        <p:sp>
          <p:nvSpPr>
            <p:cNvPr id="285" name=""/>
            <p:cNvSpPr/>
            <p:nvPr/>
          </p:nvSpPr>
          <p:spPr>
            <a:xfrm>
              <a:off x="4716360" y="765000"/>
              <a:ext cx="179280" cy="188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03000" y="692280"/>
              <a:ext cx="592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16365"/>
                  </a:solidFill>
                  <a:latin typeface="Arial"/>
                </a:rPr>
                <a:t>2008</a:t>
              </a:r>
              <a:endParaRPr b="0" lang="en-US" sz="21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940360" y="692280"/>
            <a:ext cx="978840" cy="320400"/>
            <a:chOff x="5940360" y="692280"/>
            <a:chExt cx="978840" cy="320400"/>
          </a:xfrm>
        </p:grpSpPr>
        <p:sp>
          <p:nvSpPr>
            <p:cNvPr id="288" name=""/>
            <p:cNvSpPr/>
            <p:nvPr/>
          </p:nvSpPr>
          <p:spPr>
            <a:xfrm>
              <a:off x="5940360" y="774360"/>
              <a:ext cx="179280" cy="178920"/>
            </a:xfrm>
            <a:prstGeom prst="rect">
              <a:avLst/>
            </a:prstGeom>
            <a:solidFill>
              <a:srgbClr val="f740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27000" y="692280"/>
              <a:ext cx="592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16365"/>
                  </a:solidFill>
                  <a:latin typeface="Arial"/>
                </a:rPr>
                <a:t>2009</a:t>
              </a:r>
              <a:endParaRPr b="0" lang="en-US" sz="21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619280" y="1420920"/>
            <a:ext cx="0" cy="4540320"/>
          </a:xfrm>
          <a:prstGeom prst="line">
            <a:avLst/>
          </a:prstGeom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09560" y="1655640"/>
            <a:ext cx="1822680" cy="34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09560" y="3174840"/>
            <a:ext cx="1974960" cy="333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09560" y="4684680"/>
            <a:ext cx="4110120" cy="333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09560" y="1996920"/>
            <a:ext cx="2217960" cy="341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09560" y="3508200"/>
            <a:ext cx="1741680" cy="331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09560" y="5018040"/>
            <a:ext cx="3949920" cy="341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09560" y="2338560"/>
            <a:ext cx="2692440" cy="333360"/>
          </a:xfrm>
          <a:prstGeom prst="rect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09560" y="3840120"/>
            <a:ext cx="1660680" cy="333360"/>
          </a:xfrm>
          <a:prstGeom prst="rect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09560" y="5359320"/>
            <a:ext cx="3554640" cy="331920"/>
          </a:xfrm>
          <a:prstGeom prst="rect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38280" y="1413000"/>
            <a:ext cx="71280" cy="0"/>
          </a:xfrm>
          <a:prstGeom prst="line">
            <a:avLst/>
          </a:prstGeom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38280" y="2924280"/>
            <a:ext cx="71280" cy="0"/>
          </a:xfrm>
          <a:prstGeom prst="line">
            <a:avLst/>
          </a:prstGeom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538280" y="4433760"/>
            <a:ext cx="71280" cy="0"/>
          </a:xfrm>
          <a:prstGeom prst="line">
            <a:avLst/>
          </a:prstGeom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07840" y="167328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6365"/>
                </a:solidFill>
                <a:latin typeface="Arial"/>
              </a:rPr>
              <a:t>23%</a:t>
            </a:r>
            <a:endParaRPr b="0" lang="en-US" sz="2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52200" y="318456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6365"/>
                </a:solidFill>
                <a:latin typeface="Arial"/>
              </a:rPr>
              <a:t>25%</a:t>
            </a:r>
            <a:endParaRPr b="0" lang="en-US" sz="2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812920" y="469440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6365"/>
                </a:solidFill>
                <a:latin typeface="Arial"/>
              </a:rPr>
              <a:t>52%</a:t>
            </a:r>
            <a:endParaRPr b="0" lang="en-US" sz="2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68200" y="201600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6365"/>
                </a:solidFill>
                <a:latin typeface="Arial"/>
              </a:rPr>
              <a:t>28%</a:t>
            </a:r>
            <a:endParaRPr b="0" lang="en-US" sz="2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36200" y="351648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6365"/>
                </a:solidFill>
                <a:latin typeface="Arial"/>
              </a:rPr>
              <a:t>22%</a:t>
            </a:r>
            <a:endParaRPr b="0" lang="en-US" sz="2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596920" y="503568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6365"/>
                </a:solidFill>
                <a:latin typeface="Arial"/>
              </a:rPr>
              <a:t>50%</a:t>
            </a:r>
            <a:endParaRPr b="0" lang="en-US" sz="2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72920" y="234792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6365"/>
                </a:solidFill>
                <a:latin typeface="Arial"/>
              </a:rPr>
              <a:t>34%</a:t>
            </a:r>
            <a:endParaRPr b="0" lang="en-US" sz="2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64920" y="384984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6365"/>
                </a:solidFill>
                <a:latin typeface="Arial"/>
              </a:rPr>
              <a:t>21%</a:t>
            </a:r>
            <a:endParaRPr b="0" lang="en-US" sz="2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36560" y="536904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16365"/>
                </a:solidFill>
                <a:latin typeface="Arial"/>
              </a:rPr>
              <a:t>45%</a:t>
            </a:r>
            <a:endParaRPr b="0" lang="en-US" sz="2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0240" y="2033640"/>
            <a:ext cx="131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heavy users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480" y="3390840"/>
            <a:ext cx="142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medium/light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8320" y="3687840"/>
            <a:ext cx="60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8360" y="5062680"/>
            <a:ext cx="95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6365"/>
                </a:solidFill>
                <a:latin typeface="Arial"/>
              </a:rPr>
              <a:t>no users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1994040" y="1692360"/>
            <a:ext cx="9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11.6 mil.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2664720" y="2004840"/>
            <a:ext cx="98100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16365"/>
                </a:solidFill>
                <a:latin typeface="Arial"/>
              </a:rPr>
              <a:t>14.5 mil.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3284640" y="2341440"/>
            <a:ext cx="10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16365"/>
                </a:solidFill>
                <a:latin typeface="Arial"/>
              </a:rPr>
              <a:t>17,7 mil.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2593080" y="31561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12.7 mil.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2213640" y="34923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16365"/>
                </a:solidFill>
                <a:latin typeface="Arial"/>
              </a:rPr>
              <a:t>11.4 mil.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1778040" y="3852720"/>
            <a:ext cx="10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16365"/>
                </a:solidFill>
                <a:latin typeface="Arial"/>
              </a:rPr>
              <a:t>10,7 mil.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4590360" y="47163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26.6 mil.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4154400" y="5029200"/>
            <a:ext cx="10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16365"/>
                </a:solidFill>
                <a:latin typeface="Arial"/>
              </a:rPr>
              <a:t>25.7 mil.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3720960" y="536580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16365"/>
                </a:solidFill>
                <a:latin typeface="Arial"/>
              </a:rPr>
              <a:t>23,1 mil.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80000" y="1413000"/>
            <a:ext cx="2087640" cy="1296720"/>
          </a:xfrm>
          <a:prstGeom prst="rect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Sono soprattutto individui fino ai 44 anni, con livello di istruzione e di reddito medio alto. Impiegati, quadri, dirigenti o studenti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56360" y="2997360"/>
            <a:ext cx="2087640" cy="1296720"/>
          </a:xfrm>
          <a:prstGeom prst="rect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Sono soprattutto individui fino ai 54 anni, con livello di istruzione e di reddito medio basso. Operai, impiegati, commercianti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056360" y="4581360"/>
            <a:ext cx="2087640" cy="1440000"/>
          </a:xfrm>
          <a:prstGeom prst="rect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Sono soprattutto individui con più di 55 anni, con livello di istruzione e di reddito basso. Casalinghe e pensionati. Residenti nel Sud del Paese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28" name="AutoShape 5"/>
          <p:cNvSpPr/>
          <p:nvPr/>
        </p:nvSpPr>
        <p:spPr>
          <a:xfrm rot="17257800">
            <a:off x="4032720" y="2817000"/>
            <a:ext cx="2232000" cy="719280"/>
          </a:xfrm>
          <a:custGeom>
            <a:avLst/>
            <a:gdLst>
              <a:gd name="textAreaLeft" fmla="*/ 390600 w 2232000"/>
              <a:gd name="textAreaRight" fmla="*/ 1618200 w 223200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7403a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-108000" y="1268280"/>
            <a:ext cx="9334440" cy="46990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4"/>
          <p:cNvSpPr/>
          <p:nvPr/>
        </p:nvSpPr>
        <p:spPr>
          <a:xfrm>
            <a:off x="2268360" y="97488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7403a"/>
                </a:solidFill>
                <a:latin typeface="Arial"/>
              </a:rPr>
              <a:t>% individui che si connettono ad internet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879480" y="-10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82d1"/>
                </a:solidFill>
                <a:latin typeface="Arial"/>
              </a:rPr>
              <a:t>L’accesso ad internet</a:t>
            </a:r>
            <a:br>
              <a:rPr sz="3200"/>
            </a:br>
            <a:r>
              <a:rPr b="1" lang="it-IT" sz="2000" spc="-1" strike="noStrike">
                <a:solidFill>
                  <a:srgbClr val="0082d1"/>
                </a:solidFill>
                <a:latin typeface="Arial"/>
              </a:rPr>
              <a:t>Trend sociodemo 2007/2009 </a:t>
            </a:r>
            <a:r>
              <a:rPr b="1" i="1" lang="it-IT" sz="2000" spc="-1" strike="noStrike">
                <a:solidFill>
                  <a:srgbClr val="0082d1"/>
                </a:solidFill>
                <a:latin typeface="Arial"/>
              </a:rPr>
              <a:t>per sesso-età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006640" y="2449440"/>
            <a:ext cx="306000" cy="374040"/>
          </a:xfrm>
          <a:prstGeom prst="line">
            <a:avLst/>
          </a:prstGeom>
          <a:ln w="38160">
            <a:solidFill>
              <a:srgbClr val="ec1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656080" y="3313080"/>
            <a:ext cx="306000" cy="374040"/>
          </a:xfrm>
          <a:prstGeom prst="line">
            <a:avLst/>
          </a:prstGeom>
          <a:ln w="38160">
            <a:solidFill>
              <a:srgbClr val="ec1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7840800" y="3386160"/>
            <a:ext cx="306000" cy="374040"/>
          </a:xfrm>
          <a:prstGeom prst="line">
            <a:avLst/>
          </a:prstGeom>
          <a:ln w="38160">
            <a:solidFill>
              <a:srgbClr val="ec1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1916280"/>
            <a:ext cx="0" cy="4392360"/>
          </a:xfrm>
          <a:prstGeom prst="line">
            <a:avLst/>
          </a:prstGeom>
          <a:ln w="57240">
            <a:solidFill>
              <a:srgbClr val="2424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459640" y="1916280"/>
            <a:ext cx="0" cy="4392360"/>
          </a:xfrm>
          <a:prstGeom prst="line">
            <a:avLst/>
          </a:prstGeom>
          <a:ln w="57240">
            <a:solidFill>
              <a:srgbClr val="2424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3203640" y="6064200"/>
            <a:ext cx="51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Tot. Popolazione con 14 anni o più 2007-2008-2009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71640" y="2637000"/>
            <a:ext cx="648000" cy="504720"/>
          </a:xfrm>
          <a:prstGeom prst="ellipse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+11pp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195640" y="1773360"/>
            <a:ext cx="577800" cy="431640"/>
          </a:xfrm>
          <a:prstGeom prst="ellipse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+12pp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01080" y="2781360"/>
            <a:ext cx="503280" cy="503280"/>
          </a:xfrm>
          <a:prstGeom prst="ellipse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+11pp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216000" y="549360"/>
            <a:ext cx="8928000" cy="547344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3"/>
          <p:cNvSpPr/>
          <p:nvPr/>
        </p:nvSpPr>
        <p:spPr>
          <a:xfrm>
            <a:off x="108000" y="189000"/>
            <a:ext cx="907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82d1"/>
                </a:solidFill>
                <a:latin typeface="Arial"/>
              </a:rPr>
              <a:t>Contenuti e comunicazione sulla rete</a:t>
            </a:r>
            <a:br>
              <a:rPr sz="2400"/>
            </a:br>
            <a:r>
              <a:rPr b="1" i="1" lang="it-IT" sz="2000" spc="-1" strike="noStrike">
                <a:solidFill>
                  <a:srgbClr val="0082d1"/>
                </a:solidFill>
                <a:latin typeface="Arial"/>
              </a:rPr>
              <a:t>Trend 2007/2009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0"/>
            <a:ext cx="93963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103640" y="6064200"/>
            <a:ext cx="50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individui che si connettono ad internet nei 3 anni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 rot="16200000">
            <a:off x="564480" y="523440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16365"/>
                </a:solidFill>
                <a:latin typeface="Arial"/>
              </a:rPr>
              <a:t>Dato 2007 NA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rcRect l="73912" t="981" r="1022" b="92913"/>
          <a:stretch/>
        </p:blipFill>
        <p:spPr>
          <a:xfrm>
            <a:off x="6229440" y="1270080"/>
            <a:ext cx="2340000" cy="28728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8"/>
          <p:cNvSpPr/>
          <p:nvPr/>
        </p:nvSpPr>
        <p:spPr>
          <a:xfrm rot="16200000">
            <a:off x="-300240" y="520416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616365"/>
                </a:solidFill>
                <a:latin typeface="Arial"/>
              </a:rPr>
              <a:t>Dato 2007 NA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2565360"/>
            <a:ext cx="505080" cy="336600"/>
          </a:xfrm>
          <a:prstGeom prst="ellipse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+8pp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564000" y="2060640"/>
            <a:ext cx="649080" cy="336600"/>
          </a:xfrm>
          <a:prstGeom prst="ellipse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+30pp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23280" y="2852640"/>
            <a:ext cx="504720" cy="336600"/>
          </a:xfrm>
          <a:prstGeom prst="ellipse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+7pp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2124000" y="90792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7403a"/>
                </a:solidFill>
                <a:latin typeface="Arial"/>
              </a:rPr>
              <a:t>% Chi visita almeno una volta alla settimana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99280" y="2997360"/>
            <a:ext cx="936720" cy="2879640"/>
          </a:xfrm>
          <a:prstGeom prst="rect">
            <a:avLst/>
          </a:prstGeom>
          <a:noFill/>
          <a:ln w="38160">
            <a:solidFill>
              <a:srgbClr val="f74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643280" y="2205000"/>
            <a:ext cx="505080" cy="336600"/>
          </a:xfrm>
          <a:prstGeom prst="ellipse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+8pp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028000" y="1700280"/>
            <a:ext cx="1079640" cy="1067400"/>
          </a:xfrm>
          <a:prstGeom prst="rect">
            <a:avLst/>
          </a:prstGeom>
          <a:solidFill>
            <a:srgbClr val="f74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In valore assoluto la crescita è stata dello 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1,6%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622320" y="2952000"/>
            <a:ext cx="122760" cy="927720"/>
          </a:xfrm>
          <a:prstGeom prst="line">
            <a:avLst/>
          </a:prstGeom>
          <a:ln w="38160">
            <a:solidFill>
              <a:srgbClr val="ec1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9360" y="824040"/>
            <a:ext cx="9026640" cy="562932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3"/>
          <p:cNvSpPr/>
          <p:nvPr/>
        </p:nvSpPr>
        <p:spPr>
          <a:xfrm>
            <a:off x="0" y="-27000"/>
            <a:ext cx="9072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82d1"/>
                </a:solidFill>
                <a:latin typeface="Arial"/>
              </a:rPr>
              <a:t>Interessi sulla rete</a:t>
            </a:r>
            <a:endParaRPr b="0" lang="en-US" sz="3000" spc="-1" strike="noStrike">
              <a:solidFill>
                <a:srgbClr val="616365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82d1"/>
                </a:solidFill>
                <a:latin typeface="Arial"/>
              </a:rPr>
              <a:t>Trend 2008/2009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0"/>
            <a:ext cx="93963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4824360" y="6064200"/>
            <a:ext cx="43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Si connettono ad internet 2008 e 2009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2771640" y="476280"/>
            <a:ext cx="3745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7403a"/>
                </a:solidFill>
                <a:latin typeface="Arial"/>
              </a:rPr>
              <a:t>% Chi si interessa all’argomento 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-108000" y="41400"/>
            <a:ext cx="9144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82d1"/>
                </a:solidFill>
                <a:latin typeface="Arial"/>
              </a:rPr>
              <a:t>Chi interagisce su internet</a:t>
            </a:r>
            <a:br>
              <a:rPr sz="2800"/>
            </a:br>
            <a:r>
              <a:rPr b="1" i="1" lang="it-IT" sz="2000" spc="-1" strike="noStrike">
                <a:solidFill>
                  <a:srgbClr val="0082d1"/>
                </a:solidFill>
                <a:latin typeface="Arial"/>
              </a:rPr>
              <a:t>Trend 2008/2009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4932360" y="5805360"/>
            <a:ext cx="446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Si connettono ad Internet e  si interessano ad almeno 1 argomento 2008 e 2009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1280" y="2781360"/>
            <a:ext cx="1224000" cy="115236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bb7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-757080" y="5776920"/>
            <a:ext cx="40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Si connettono ad internet 2008 e 2009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435640" y="5084640"/>
            <a:ext cx="3203640" cy="720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616365"/>
                </a:solidFill>
                <a:latin typeface="Arial"/>
              </a:rPr>
              <a:t>Per interazione si intende: partecipare attivamente alle discussioni, aggiungere contenuti come commenti, file musicali o audiovisivi, fotografie</a:t>
            </a:r>
            <a:endParaRPr b="0" lang="en-US" sz="1200" spc="-1" strike="noStrike">
              <a:solidFill>
                <a:srgbClr val="616365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55640" y="3716280"/>
            <a:ext cx="2155680" cy="1063440"/>
            <a:chOff x="755640" y="3716280"/>
            <a:chExt cx="2155680" cy="1063440"/>
          </a:xfrm>
        </p:grpSpPr>
        <p:sp>
          <p:nvSpPr>
            <p:cNvPr id="367" name=""/>
            <p:cNvSpPr/>
            <p:nvPr/>
          </p:nvSpPr>
          <p:spPr>
            <a:xfrm>
              <a:off x="755640" y="4005000"/>
              <a:ext cx="1082520" cy="774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38160" y="3716280"/>
              <a:ext cx="1073160" cy="1063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539640" y="1916280"/>
            <a:ext cx="266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403a"/>
                </a:solidFill>
                <a:latin typeface="Arial"/>
              </a:rPr>
              <a:t>Numero di argomenti a cui ciascun individuo si interessa su internet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422520" y="1278000"/>
            <a:ext cx="141480" cy="142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28880" y="12175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16365"/>
                </a:solidFill>
                <a:latin typeface="Arial"/>
              </a:rPr>
              <a:t>2008</a:t>
            </a:r>
            <a:endParaRPr b="0" lang="en-US" sz="17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718160" y="1278000"/>
            <a:ext cx="141120" cy="14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12175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16365"/>
                </a:solidFill>
                <a:latin typeface="Arial"/>
              </a:rPr>
              <a:t>2009</a:t>
            </a:r>
            <a:endParaRPr b="0" lang="en-US" sz="1700" spc="-1" strike="noStrike">
              <a:solidFill>
                <a:srgbClr val="616365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724360" y="3141720"/>
            <a:ext cx="2155680" cy="1659960"/>
            <a:chOff x="5724360" y="3141720"/>
            <a:chExt cx="2155680" cy="1659960"/>
          </a:xfrm>
        </p:grpSpPr>
        <p:sp>
          <p:nvSpPr>
            <p:cNvPr id="375" name=""/>
            <p:cNvSpPr/>
            <p:nvPr/>
          </p:nvSpPr>
          <p:spPr>
            <a:xfrm>
              <a:off x="6078960" y="34286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616365"/>
                  </a:solidFill>
                  <a:latin typeface="Arial"/>
                </a:rPr>
                <a:t>28</a:t>
              </a:r>
              <a:endParaRPr b="0" lang="en-US" sz="15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31680" y="31417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616365"/>
                  </a:solidFill>
                  <a:latin typeface="Arial"/>
                </a:rPr>
                <a:t>32</a:t>
              </a:r>
              <a:endParaRPr b="0" lang="en-US" sz="15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24360" y="3789000"/>
              <a:ext cx="1082520" cy="1012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06880" y="3428640"/>
              <a:ext cx="1073160" cy="1373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252440" y="3524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16365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115000" y="32367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616365"/>
                </a:solidFill>
                <a:latin typeface="Arial"/>
              </a:rPr>
              <a:t>4,3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96000" y="1916280"/>
            <a:ext cx="2663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403a"/>
                </a:solidFill>
                <a:latin typeface="Arial"/>
              </a:rPr>
              <a:t>% di individui che interagisce su almeno un argomento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82d1"/>
                </a:solidFill>
                <a:latin typeface="Arial"/>
              </a:rPr>
              <a:t>Le passioni della vita degli Italiani</a:t>
            </a: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79520" y="2998800"/>
            <a:ext cx="322200" cy="2085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46400" y="4384800"/>
            <a:ext cx="322200" cy="69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995640" y="3889440"/>
            <a:ext cx="322200" cy="1195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753160" y="3602160"/>
            <a:ext cx="323640" cy="1482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562880" y="3889440"/>
            <a:ext cx="322200" cy="1195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2160" y="26352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16365"/>
                </a:solidFill>
                <a:latin typeface="Arial"/>
              </a:rPr>
              <a:t>21</a:t>
            </a:r>
            <a:endParaRPr b="0" lang="en-US" sz="15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39640" y="4029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16365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94920" y="35337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16365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795280" y="32367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16365"/>
                </a:solidFill>
                <a:latin typeface="Arial"/>
              </a:rPr>
              <a:t>15</a:t>
            </a:r>
            <a:endParaRPr b="0" lang="en-US" sz="15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595640" y="35733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16365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76640" y="5187960"/>
            <a:ext cx="147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Ascoltare musica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158560" y="5187960"/>
            <a:ext cx="162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Andare al cinema e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410920" y="5403960"/>
            <a:ext cx="113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guardare film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129920" y="5187960"/>
            <a:ext cx="127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Guardare la TV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950440" y="5187960"/>
            <a:ext cx="107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Leggere libri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07160" y="5187960"/>
            <a:ext cx="127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Essere sempre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523640" y="5403960"/>
            <a:ext cx="152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informato (es. TG,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621200" y="5619600"/>
            <a:ext cx="1250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365"/>
                </a:solidFill>
                <a:latin typeface="Arial"/>
              </a:rPr>
              <a:t>giornali, news)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39800" y="1224000"/>
            <a:ext cx="133200" cy="13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010160" y="1160640"/>
            <a:ext cx="65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16365"/>
                </a:solidFill>
                <a:latin typeface="Arial"/>
              </a:rPr>
              <a:t>ITALIA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476360" y="1708200"/>
            <a:ext cx="324000" cy="3376440"/>
            <a:chOff x="1476360" y="1708200"/>
            <a:chExt cx="324000" cy="3376440"/>
          </a:xfrm>
        </p:grpSpPr>
        <p:sp>
          <p:nvSpPr>
            <p:cNvPr id="404" name=""/>
            <p:cNvSpPr/>
            <p:nvPr/>
          </p:nvSpPr>
          <p:spPr>
            <a:xfrm>
              <a:off x="1476360" y="2009520"/>
              <a:ext cx="324000" cy="30751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78880" y="17082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616365"/>
                  </a:solidFill>
                  <a:latin typeface="Arial"/>
                </a:rPr>
                <a:t>31</a:t>
              </a:r>
              <a:endParaRPr b="0" lang="en-US" sz="15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3190320" y="3683160"/>
            <a:ext cx="327600" cy="1401120"/>
            <a:chOff x="3190320" y="3683160"/>
            <a:chExt cx="327600" cy="1401120"/>
          </a:xfrm>
        </p:grpSpPr>
        <p:sp>
          <p:nvSpPr>
            <p:cNvPr id="407" name=""/>
            <p:cNvSpPr/>
            <p:nvPr/>
          </p:nvSpPr>
          <p:spPr>
            <a:xfrm>
              <a:off x="3203640" y="3987720"/>
              <a:ext cx="314280" cy="1096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90320" y="36831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616365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932360" y="3790800"/>
            <a:ext cx="322200" cy="1293840"/>
            <a:chOff x="4932360" y="3790800"/>
            <a:chExt cx="322200" cy="1293840"/>
          </a:xfrm>
        </p:grpSpPr>
        <p:sp>
          <p:nvSpPr>
            <p:cNvPr id="410" name=""/>
            <p:cNvSpPr/>
            <p:nvPr/>
          </p:nvSpPr>
          <p:spPr>
            <a:xfrm>
              <a:off x="4932360" y="4095720"/>
              <a:ext cx="322200" cy="988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69440" y="3790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616365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707160" y="2693880"/>
            <a:ext cx="312840" cy="2390760"/>
            <a:chOff x="6707160" y="2693880"/>
            <a:chExt cx="312840" cy="2390760"/>
          </a:xfrm>
        </p:grpSpPr>
        <p:sp>
          <p:nvSpPr>
            <p:cNvPr id="413" name=""/>
            <p:cNvSpPr/>
            <p:nvPr/>
          </p:nvSpPr>
          <p:spPr>
            <a:xfrm>
              <a:off x="6707160" y="2998800"/>
              <a:ext cx="312840" cy="208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14360" y="2693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616365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8532720" y="3386160"/>
            <a:ext cx="323640" cy="1698480"/>
            <a:chOff x="8532720" y="3386160"/>
            <a:chExt cx="323640" cy="1698480"/>
          </a:xfrm>
        </p:grpSpPr>
        <p:sp>
          <p:nvSpPr>
            <p:cNvPr id="416" name=""/>
            <p:cNvSpPr/>
            <p:nvPr/>
          </p:nvSpPr>
          <p:spPr>
            <a:xfrm>
              <a:off x="8532720" y="3690720"/>
              <a:ext cx="323640" cy="1393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592120" y="33861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616365"/>
                  </a:solidFill>
                  <a:latin typeface="Arial"/>
                </a:rPr>
                <a:t>14</a:t>
              </a:r>
              <a:endParaRPr b="0" lang="en-US" sz="15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162080" y="2612880"/>
            <a:ext cx="312840" cy="2471760"/>
            <a:chOff x="1162080" y="2612880"/>
            <a:chExt cx="312840" cy="2471760"/>
          </a:xfrm>
        </p:grpSpPr>
        <p:sp>
          <p:nvSpPr>
            <p:cNvPr id="419" name=""/>
            <p:cNvSpPr/>
            <p:nvPr/>
          </p:nvSpPr>
          <p:spPr>
            <a:xfrm>
              <a:off x="1162080" y="2900160"/>
              <a:ext cx="312840" cy="2184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235880" y="26128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616365"/>
                  </a:solidFill>
                  <a:latin typeface="Arial"/>
                </a:rPr>
                <a:t>22</a:t>
              </a:r>
              <a:endParaRPr b="0" lang="en-US" sz="15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2882880" y="3879720"/>
            <a:ext cx="322200" cy="1204920"/>
            <a:chOff x="2882880" y="3879720"/>
            <a:chExt cx="322200" cy="1204920"/>
          </a:xfrm>
        </p:grpSpPr>
        <p:sp>
          <p:nvSpPr>
            <p:cNvPr id="422" name=""/>
            <p:cNvSpPr/>
            <p:nvPr/>
          </p:nvSpPr>
          <p:spPr>
            <a:xfrm>
              <a:off x="2882880" y="4186080"/>
              <a:ext cx="322200" cy="8985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87280" y="3879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616365"/>
                  </a:solidFill>
                  <a:latin typeface="Arial"/>
                </a:rPr>
                <a:t>9</a:t>
              </a:r>
              <a:endParaRPr b="0" lang="en-US" sz="15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626000" y="3879720"/>
            <a:ext cx="314280" cy="1204920"/>
            <a:chOff x="4626000" y="3879720"/>
            <a:chExt cx="314280" cy="1204920"/>
          </a:xfrm>
        </p:grpSpPr>
        <p:sp>
          <p:nvSpPr>
            <p:cNvPr id="425" name=""/>
            <p:cNvSpPr/>
            <p:nvPr/>
          </p:nvSpPr>
          <p:spPr>
            <a:xfrm>
              <a:off x="4626000" y="4186080"/>
              <a:ext cx="314280" cy="8985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701600" y="3879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616365"/>
                  </a:solidFill>
                  <a:latin typeface="Arial"/>
                </a:rPr>
                <a:t>9</a:t>
              </a:r>
              <a:endParaRPr b="0" lang="en-US" sz="15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386400" y="2890800"/>
            <a:ext cx="324000" cy="2193840"/>
            <a:chOff x="6386400" y="2890800"/>
            <a:chExt cx="324000" cy="2193840"/>
          </a:xfrm>
        </p:grpSpPr>
        <p:sp>
          <p:nvSpPr>
            <p:cNvPr id="428" name=""/>
            <p:cNvSpPr/>
            <p:nvPr/>
          </p:nvSpPr>
          <p:spPr>
            <a:xfrm>
              <a:off x="6386400" y="3197160"/>
              <a:ext cx="324000" cy="1887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39680" y="28908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616365"/>
                  </a:solidFill>
                  <a:latin typeface="Arial"/>
                </a:rPr>
                <a:t>19</a:t>
              </a:r>
              <a:endParaRPr b="0" lang="en-US" sz="15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8213760" y="3987720"/>
            <a:ext cx="314280" cy="1096920"/>
            <a:chOff x="8213760" y="3987720"/>
            <a:chExt cx="314280" cy="1096920"/>
          </a:xfrm>
        </p:grpSpPr>
        <p:sp>
          <p:nvSpPr>
            <p:cNvPr id="431" name=""/>
            <p:cNvSpPr/>
            <p:nvPr/>
          </p:nvSpPr>
          <p:spPr>
            <a:xfrm>
              <a:off x="8213760" y="4294080"/>
              <a:ext cx="314280" cy="7905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308800" y="3987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616365"/>
                  </a:solidFill>
                  <a:latin typeface="Arial"/>
                </a:rPr>
                <a:t>8</a:t>
              </a:r>
              <a:endParaRPr b="0" lang="en-US" sz="15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801720" y="3678120"/>
            <a:ext cx="360360" cy="1406520"/>
            <a:chOff x="801720" y="3678120"/>
            <a:chExt cx="360360" cy="1406520"/>
          </a:xfrm>
        </p:grpSpPr>
        <p:sp>
          <p:nvSpPr>
            <p:cNvPr id="434" name=""/>
            <p:cNvSpPr/>
            <p:nvPr/>
          </p:nvSpPr>
          <p:spPr>
            <a:xfrm>
              <a:off x="801720" y="3987720"/>
              <a:ext cx="360360" cy="109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75520" y="36781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616365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568600" y="4483080"/>
            <a:ext cx="314280" cy="601560"/>
            <a:chOff x="2568600" y="4483080"/>
            <a:chExt cx="314280" cy="601560"/>
          </a:xfrm>
        </p:grpSpPr>
        <p:sp>
          <p:nvSpPr>
            <p:cNvPr id="437" name=""/>
            <p:cNvSpPr/>
            <p:nvPr/>
          </p:nvSpPr>
          <p:spPr>
            <a:xfrm>
              <a:off x="2568600" y="4788000"/>
              <a:ext cx="314280" cy="296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39880" y="4483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616365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4309920" y="3386160"/>
            <a:ext cx="323640" cy="1698480"/>
            <a:chOff x="4309920" y="3386160"/>
            <a:chExt cx="323640" cy="1698480"/>
          </a:xfrm>
        </p:grpSpPr>
        <p:sp>
          <p:nvSpPr>
            <p:cNvPr id="440" name=""/>
            <p:cNvSpPr/>
            <p:nvPr/>
          </p:nvSpPr>
          <p:spPr>
            <a:xfrm>
              <a:off x="4309920" y="3690720"/>
              <a:ext cx="323640" cy="1393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358160" y="33861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616365"/>
                  </a:solidFill>
                  <a:latin typeface="Arial"/>
                </a:rPr>
                <a:t>14</a:t>
              </a:r>
              <a:endParaRPr b="0" lang="en-US" sz="15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6075360" y="3987720"/>
            <a:ext cx="312480" cy="1096920"/>
            <a:chOff x="6075360" y="3987720"/>
            <a:chExt cx="312480" cy="1096920"/>
          </a:xfrm>
        </p:grpSpPr>
        <p:sp>
          <p:nvSpPr>
            <p:cNvPr id="443" name=""/>
            <p:cNvSpPr/>
            <p:nvPr/>
          </p:nvSpPr>
          <p:spPr>
            <a:xfrm>
              <a:off x="6075360" y="4294080"/>
              <a:ext cx="312480" cy="79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03520" y="3987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616365"/>
                  </a:solidFill>
                  <a:latin typeface="Arial"/>
                </a:rPr>
                <a:t>8</a:t>
              </a:r>
              <a:endParaRPr b="0" lang="en-US" sz="15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7888320" y="3683160"/>
            <a:ext cx="322200" cy="1401120"/>
            <a:chOff x="7888320" y="3683160"/>
            <a:chExt cx="322200" cy="1401120"/>
          </a:xfrm>
        </p:grpSpPr>
        <p:sp>
          <p:nvSpPr>
            <p:cNvPr id="446" name=""/>
            <p:cNvSpPr/>
            <p:nvPr/>
          </p:nvSpPr>
          <p:spPr>
            <a:xfrm>
              <a:off x="7888320" y="3987720"/>
              <a:ext cx="322200" cy="109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57440" y="36831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616365"/>
                  </a:solidFill>
                  <a:latin typeface="Arial"/>
                </a:rPr>
                <a:t>11</a:t>
              </a:r>
              <a:endParaRPr b="0" lang="en-US" sz="15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7451640" y="1160640"/>
            <a:ext cx="1489320" cy="243720"/>
            <a:chOff x="7451640" y="1160640"/>
            <a:chExt cx="1489320" cy="243720"/>
          </a:xfrm>
        </p:grpSpPr>
        <p:sp>
          <p:nvSpPr>
            <p:cNvPr id="449" name=""/>
            <p:cNvSpPr/>
            <p:nvPr/>
          </p:nvSpPr>
          <p:spPr>
            <a:xfrm>
              <a:off x="7451640" y="1224000"/>
              <a:ext cx="135000" cy="135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745400" y="1160640"/>
              <a:ext cx="1195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16365"/>
                  </a:solidFill>
                  <a:latin typeface="Arial"/>
                </a:rPr>
                <a:t>Heavy users</a:t>
              </a:r>
              <a:endParaRPr b="0" lang="en-US" sz="16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4113360" y="1160640"/>
            <a:ext cx="2176920" cy="243720"/>
            <a:chOff x="4113360" y="1160640"/>
            <a:chExt cx="2176920" cy="243720"/>
          </a:xfrm>
        </p:grpSpPr>
        <p:sp>
          <p:nvSpPr>
            <p:cNvPr id="452" name=""/>
            <p:cNvSpPr/>
            <p:nvPr/>
          </p:nvSpPr>
          <p:spPr>
            <a:xfrm>
              <a:off x="4113360" y="1224000"/>
              <a:ext cx="134640" cy="135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43840" y="1160640"/>
              <a:ext cx="184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16365"/>
                  </a:solidFill>
                  <a:latin typeface="Arial"/>
                </a:rPr>
                <a:t>Medium/light users</a:t>
              </a:r>
              <a:endParaRPr b="0" lang="en-US" sz="16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154240" y="1160640"/>
            <a:ext cx="1049040" cy="243720"/>
            <a:chOff x="2154240" y="1160640"/>
            <a:chExt cx="1049040" cy="243720"/>
          </a:xfrm>
        </p:grpSpPr>
        <p:sp>
          <p:nvSpPr>
            <p:cNvPr id="455" name=""/>
            <p:cNvSpPr/>
            <p:nvPr/>
          </p:nvSpPr>
          <p:spPr>
            <a:xfrm>
              <a:off x="2154240" y="1224000"/>
              <a:ext cx="135000" cy="135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16365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48000" y="116064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16365"/>
                  </a:solidFill>
                  <a:latin typeface="Arial"/>
                </a:rPr>
                <a:t>No user</a:t>
              </a:r>
              <a:endParaRPr b="0" lang="en-US" sz="1600" spc="-1" strike="noStrike">
                <a:solidFill>
                  <a:srgbClr val="616365"/>
                </a:solidFill>
                <a:latin typeface="Arial"/>
              </a:endParaRPr>
            </a:p>
          </p:txBody>
        </p:sp>
      </p:grpSp>
      <p:sp>
        <p:nvSpPr>
          <p:cNvPr id="457" name="Text Box 5"/>
          <p:cNvSpPr/>
          <p:nvPr/>
        </p:nvSpPr>
        <p:spPr>
          <a:xfrm>
            <a:off x="4427640" y="6021360"/>
            <a:ext cx="462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66"/>
                </a:solidFill>
                <a:latin typeface="Century Gothic"/>
              </a:rPr>
              <a:t>Base: Tot. Popolazione con 14 anni o più</a:t>
            </a:r>
            <a:endParaRPr b="0" lang="en-US" sz="1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780000" y="765000"/>
            <a:ext cx="20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7403a"/>
                </a:solidFill>
                <a:latin typeface="Arial"/>
              </a:rPr>
              <a:t>% rispondenti “E’ la mia passione”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3:38:45Z</dcterms:created>
  <dc:creator>CiniSt01</dc:creator>
  <dc:description/>
  <dc:language>en-US</dc:language>
  <cp:lastModifiedBy>BaroniCl01</cp:lastModifiedBy>
  <dcterms:modified xsi:type="dcterms:W3CDTF">2009-09-14T15:48:53Z</dcterms:modified>
  <cp:revision>841</cp:revision>
  <dc:subject/>
  <dc:title>2007, May 15th</dc:title>
</cp:coreProperties>
</file>